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C2D-6C85-4202-81C4-927FA73598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okace OPŽP 2007-13 byla 4 643 mil. EUR. Pokles alokace OPŽP II na 57%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1A3-5F0F-4134-9A79-5CA4AAF047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C99-1E1A-4D8B-B547-F9AE05E1FC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9B72-A9E4-43FD-A6AD-E02B9B0C11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rtál ISKP14+ je určen pro žadatele/příjemce pro zadávání žádostí o podporu projektu a správu projektů po celou dobu jejich životního cyklu. Žádosti o podporu projektu bude možné zadávat až po vyhlášení výzev operačních programů pro programové období 2014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nformace pro žadate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stup (včetně registrace) do Aplikace MS2014+ bude umožněn po finalizaci jednotlivých operačních programů v rámci Dohody o partnerství mezi Českou republikou a Evropskou unií. Následně po vyhlášení výzev bude možné podávat žádosti o podpo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2B9-7FBB-4C73-AB68-4F77B1F8FC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763-5A39-4ECE-8E70-AD3E5A0C74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1B1D-D58E-4437-BEE3-E6ED274530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0F4-A95F-406A-9116-2917F57966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E6FE-403B-4623-8542-69420D9A63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430-1784-448A-B31F-94A1038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A49-5F1B-463A-A2C3-F43F3F0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9CE-7FF6-4D33-8CD4-0305D61C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9AD-422D-4D1E-939A-454A0FC7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D83-447F-4E95-8AC1-F307FEC1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CD5-A3DD-4F64-8E05-3CC9084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DAE-8FF4-4931-BFA5-A7D271E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55D-B609-4FC3-B6FB-A510C31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6186-2068-43E3-8437-0709805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9903-AC90-4285-93BA-D004C4CF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BD34-8A7B-4142-9818-6A6149B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5E6-142F-4A4D-A180-D97E839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9A28-A2BF-4927-A389-8F719CA8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9BD-6901-4FEB-B710-23BE5E4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6352-69B7-4081-A986-78C31389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471F-0F0A-4B00-BD6A-489BCB4F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89F8-7643-4836-BEDF-F0F2936E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F38-3788-4755-B548-C7BE760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598-01F8-49A8-9119-9B338B6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96E-C41C-434D-9F84-4E89589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EA0-4F89-4FB6-A511-72ECD08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9FC-4018-4838-A9FA-B89B047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6EC-60BE-484E-A506-7418BEB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3F7-D34B-4CE7-AFAC-F20F689C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F719-F1AE-4F33-8498-A8E8617F93F9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7EC-2916-44BF-B70B-4FDB4D0262D2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hyperlink" Target="http://www.opzp.cz/vyzv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084640"/>
            <a:ext cx="352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 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08000" y="2565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Operační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Životní prostředí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1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revence vzniku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ování projektů předcházení vzniku komunálních odpadů a realizace nebo modernizace technologií, jejichž výstupem bude menší množství produkovaných odpadů na jednotku výrobku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2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Zvýšit podíl materiálového a energetického využití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ýstavba a modernizace zařízení pro sběr, třídění, úpravu, materiálové a energetické využití odpadů a nakládání s nebezpečnými odpad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3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Rekultivovat staré skládk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rekultivace starých skládek technicky nezabezpečených, které byly provozovány před účinností zákona č. 238/1991 Sb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66D-043C-47C5-9EA8-244E1C97AC7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4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Dokončit inventarizaci a odstranit ekologické zátěž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inventarizace kontaminovaných lokalit, realizace doprůzkumů a zpracování analýz rizik a sanace nejvážněji kontaminovaných lokal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5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nvironmentální rizika a rozvíjet systémy jejich říz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komplexní inventarizace všech kontaminovaných a potenciálně kontaminovaných lokalit, jejímž výstupem bude databáze těchto lokalit. Na základě informací získaných o kontaminaci a jejích dopadech budou lokality v databázi kategorizovány do prior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6F9-B137-4CF8-AA9E-943FC662490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říznivý stav předmětu ochrany národně významných chráněných územ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implementace soustavy Natura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biodiverzitu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speciální péče o vzácné biotopy, jako jsou například rašeliniště, písčiny a stepní biotopy, cílené na zlepšení jejich kvality a druhového složení (včetně omezování invazních a expanzivních druhů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AF83-7389-47BF-92EB-2964F025245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přirozené funkce krajin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opatření na zprůchodnění migračních bariér pro vybrané druhy živočichů (obojživelníci, chráněné druhy plazů, vydra, bobr, sysel, netopýři), a to zejména na významných tahových cestách obojživelníků a na místech, kde dochází k úhynu kriticky a silně ohrožených druhů ap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kvalitu prostředí v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revitalizace funkčních ploch a prvků sídelní zele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314-A44B-4A81-8E8D-B5C7D7FB205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5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1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Snížit energetickou náročnost veřejných budov a zvýšit využití obnovitelných zdrojů energi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celkové nebo dílčí energeticky úsporné renovace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2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Dosáhnout vysokého energetického standardu nových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ícenáklady na dosažení pasivního energetického standardu v případě výstavby nov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3AF-4AC0-4951-A706-A7A0361E4D0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483920"/>
            <a:ext cx="8104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renovace budov památkově chráněných budov dle zákona č. 20/1987 Sb., o státní památkové péči, v platném znění, budou podporovány rovněž dílčí aktivity vedoucí ke snížení energetické náročnosti budovy bez ohledu na dosažení parametrů pro energetickou náročnost budovy dle vyhlášky č. 78/2013 Sb.,            o energetické nároč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připravovaných hodnotících kritérií budou památkově chráněné budovy hodnoceny zvlášť, tzn. že budou nastaveny mírnější bodové hranice než u „standardních“ budov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9E4A-B484-4075-AB02-FC261101333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mezení způsobilých investičních (realizačních) nákladů u vybraných opatření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aximální způsobilé výdaje v případě snižování spotřeby energie zlepšením tepelně technických vlastností obvodových konstrukcí budov.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plocha na systémové hranici budovy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*možnost uplatnění míry způsobilosti se bude odvíjet od požadavku příslušného orgánu památkové péč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85F2-5601-4D00-966F-7E1DB635ED5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2349360"/>
          <a:ext cx="7343640" cy="2735280"/>
        </p:xfrm>
        <a:graphic>
          <a:graphicData uri="http://schemas.openxmlformats.org/drawingml/2006/table">
            <a:tbl>
              <a:tblPr/>
              <a:tblGrid>
                <a:gridCol w="4900320"/>
                <a:gridCol w="2443320"/>
              </a:tblGrid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ZATEPL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4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 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oché a šikmé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onstrukce k nevytápěným prostorů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ůdám, suterénům, ostatním místnost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 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Výplně otvorů – památkové chráněné budo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0 000</a:t>
                      </a:r>
                      <a:r>
                        <a:rPr b="1" lang="cs-CZ" sz="1400" spc="-1" strike="noStrike" baseline="30000">
                          <a:solidFill>
                            <a:srgbClr val="ff0000"/>
                          </a:solidFill>
                          <a:latin typeface="Arial Unicode MS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lokace pro jednotlivé prioritní osy pro období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7D9-BFE3-463E-90C6-C10D78CA3DD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1557360"/>
          <a:ext cx="5545080" cy="3887640"/>
        </p:xfrm>
        <a:graphic>
          <a:graphicData uri="http://schemas.openxmlformats.org/drawingml/2006/table">
            <a:tbl>
              <a:tblPr/>
              <a:tblGrid>
                <a:gridCol w="2494080"/>
                <a:gridCol w="1544400"/>
                <a:gridCol w="150660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Prioritní 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mil.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Celkem (vč. 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 6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alší informace k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ýše podpo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znatelnost nákl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Systém administrace projekt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řílohy k žádost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ravidlo N + 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še je stanoven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Unicode MS"/>
              </a:rPr>
              <a:t>v Pravidlech pro žadatele a příjemce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, které nahrazují stávající ID, ZPŽP, Příručku a Směrnici MŽ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99F-A848-41DD-A40F-CDB49C2E639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Informace k MS20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MS2014+ v rámci všech operačních program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živatelé systému neinstalují do počítače žádný program – veškerá administrace probíhá v okně internetového prohlížeče (portál IS KP14+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Elektronické podání žádosti o podporu (prostřednictvím elektronického podpisu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eškerá komunikace mezi uživateli bude probíhat elektronicky (tzv. interní depeše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AA1D-D55E-41B7-93EE-704D79A10BF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Konec financování OPŽP 2007-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31.12.2015 = konec způsobilosti výdajů OPŽP 2007-2013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tj. datum vystavení faktury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a datum uhrazení faktury dodavateli musí proběhnout do 31.12.2015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pokládaný termín pro podání posledních Žádostí o platbu je konec listopadu 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čátkem roku 2016 bude výjimečně možné podat  ŽoP (pouze formou tzv. ex-post platby) na faktury vystavené v 11 – 12/2015 a uhrazené dodavateli do 31.12.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 konce roku 2015 je nezbytné vyrovnat veškeré závazky příjemců podpory vůči dodavatelům ve smyslu Závazných pokynů pro žadatele a příjemce podpory, kapitoly „Zásady financování – náležitosti Žádosti o platbu“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C8B0-87B4-439D-B7C1-2F18AF62F4E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0" t="10523" r="1341" b="3178"/>
          <a:stretch/>
        </p:blipFill>
        <p:spPr>
          <a:xfrm>
            <a:off x="357120" y="1341360"/>
            <a:ext cx="7489800" cy="524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B72-899D-491C-A7D6-3E06F99DE9A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nice 5"/>
          <p:cNvSpPr/>
          <p:nvPr/>
        </p:nvSpPr>
        <p:spPr>
          <a:xfrm flipV="1">
            <a:off x="324000" y="134100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nice 7"/>
          <p:cNvSpPr/>
          <p:nvPr/>
        </p:nvSpPr>
        <p:spPr>
          <a:xfrm>
            <a:off x="324000" y="134136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rcRect l="0" t="10800" r="1281" b="4581"/>
          <a:stretch/>
        </p:blipFill>
        <p:spPr>
          <a:xfrm>
            <a:off x="106200" y="1268280"/>
            <a:ext cx="849816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C26-0FD9-4F3C-BD34-9FAEDE5B283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1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0880" cy="52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6DA-DFCA-4566-842F-1C3F8634D93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2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5240" cy="546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7" name="Zástupný symbol pro obsah 4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2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9" name="Zástupný symbol pro obsah 3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73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Webové stránk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CCAF-B0F8-4BDA-8F24-C45199D8FFB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ázek 4" descr=""/>
          <p:cNvPicPr/>
          <p:nvPr/>
        </p:nvPicPr>
        <p:blipFill>
          <a:blip r:embed="rId1"/>
          <a:srcRect l="0" t="10615" r="1116" b="3211"/>
          <a:stretch/>
        </p:blipFill>
        <p:spPr>
          <a:xfrm>
            <a:off x="179280" y="1268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1197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Zateplení církevního objektu Sboru Bratrské jednoty baptistů v Chebu,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bor Bratrské jednoty baptistů v Chebu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4" name="Zástupný symbol pro obsah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316548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D6E-14BF-4A72-8EED-C700CAA764C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rázek 5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545000" cy="340848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6"/>
          <p:cNvSpPr/>
          <p:nvPr/>
        </p:nvSpPr>
        <p:spPr>
          <a:xfrm>
            <a:off x="4500720" y="141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eplení obvodových plášťů budovy a střešních ko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měna a rekonstrukce otvorových výplní ob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7"/>
          <p:cNvSpPr/>
          <p:nvPr/>
        </p:nvSpPr>
        <p:spPr>
          <a:xfrm>
            <a:off x="0" y="4724280"/>
            <a:ext cx="4500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1 820 397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  829 185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746 266,50 Kč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634 326,52 Kč; SFŽP 111 939,98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40720" cy="792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Beskydská Oáza v Písku – realizace úspor energie, 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lezská církev evangelická augsburského vyznán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0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2119320"/>
            <a:ext cx="3875040" cy="461160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11D-A3F4-4EE0-91E6-C70E1301700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rázek 5" descr=""/>
          <p:cNvPicPr/>
          <p:nvPr/>
        </p:nvPicPr>
        <p:blipFill>
          <a:blip r:embed="rId2"/>
          <a:stretch/>
        </p:blipFill>
        <p:spPr>
          <a:xfrm>
            <a:off x="108000" y="1352520"/>
            <a:ext cx="3816360" cy="43880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6"/>
          <p:cNvSpPr/>
          <p:nvPr/>
        </p:nvSpPr>
        <p:spPr>
          <a:xfrm>
            <a:off x="4643280" y="13525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řízení nového kotle na biomasu (pelet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7"/>
          <p:cNvSpPr/>
          <p:nvPr/>
        </p:nvSpPr>
        <p:spPr>
          <a:xfrm>
            <a:off x="395280" y="5732640"/>
            <a:ext cx="4681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 6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5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453 195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428 017,50 Kč; SFŽP 25 177,50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Rekonstrukce zahrady,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žadatel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Farní sbor Českobratrské církve evangelické v Táboře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6" name="Zástupný symbol pro obsah 4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59280" cy="48956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D668-CE4B-486D-9AE5-0FC80742B62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5"/>
          <p:cNvSpPr/>
          <p:nvPr/>
        </p:nvSpPr>
        <p:spPr>
          <a:xfrm>
            <a:off x="5076720" y="17733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tní obnova travnaté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azení nových stromků a keř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šetření stromů stávající vč. zajištění potřebného zavla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6"/>
          <p:cNvSpPr/>
          <p:nvPr/>
        </p:nvSpPr>
        <p:spPr>
          <a:xfrm>
            <a:off x="5076720" y="4076640"/>
            <a:ext cx="37465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31 898,6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71 732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34 037,70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283 916,74 Kč; SFŽP 50 120,96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761-3ACF-4A62-8DAA-598A9491B50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ěkuji Vám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5300640"/>
            <a:ext cx="70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martin.kubica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ávaznost OPŽP 2007-13 a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486-E02D-468B-8FE9-A185F342649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00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2014-2020 svým zaměřením navazuje na OPŽP 2007-201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užívá získaných zkušeností, které směřují k nastavení efektivního a kvalitního systému podpory ochrany životního prostřed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roti předchozímu OPŽP 2007-2013 je více koncentrován na identifikované prioritní problémy, zejména v PO 2 (snížení emisí z lokálního vytápění domácností) a PO 5 (snížení energetické náročnosti budov a zvýšení využití obnovitelných zdrojů energi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ípravy na programové období 2014-2020 probíhají v ČR již od roku 2010, v čele procesu přípravy je MM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8A79-C57B-44D6-8962-208B58BC3C2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hoda o partnerství – schválena Evropskou komisí 26. 8.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gramový dokument OPŽP – verze č. 9 schválena Evropskou komisí 30. 4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– zveřejněna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zvy včetně HK – zveřejněny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://www.opzp.cz/vyzvy/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ájení příjmu žádostí – 14. 8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y pro období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1: Zlepšování kvality vody a snižování rizika 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2: Zlepšování kvality ovzduší v lidských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3: Odpady a materiálové toky, ekologické zátěže a rizik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4 : 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5: Energetické ús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B269-18C6-4925-A900-2CE7A7EE5DB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množství vypouštěného znečištění do povrchových i podzemních vod z komunálních zdrojů a vnos znečišťujících látek do povrchových a podzemních vod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kanalizace za předpokladu existence vyhovující čistírny odpadních vod v aglomeraci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dodávky pitné vody v odpovídající jakosti a množstv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a modernizace úpraven vody a zvyšování kvality zdrojů pitné vody včetně výstavby a modernizace systémů (technická opatření) pro ochranu zdrojů pitné vody v jejich bezprostřední blízkosti, sloužící veřejné potřeb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DB2-1EA3-42FA-8481-9C7C810FB88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ovodňovou ochranu intravilá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hospodaření se srážkovými vodami v intravilánu a jejich další využití namísto jejich urychleného odvádění kanalizací do to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řit preventivní protipovodňová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budování a rozšíření varovných, hlásných, předpovědních a výstražných systémů na lokální úrovni, digitální povodňové plán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6F1-7740-4CD2-80AF-1F5FE70A4F7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z lokálního vytápění domácností podílející se na expozici obyvatelstva nadlimitním koncentracím znečišťujících látek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měna kotle na pevná paliva za nový kotel na pevná nebo plynná paliva s minimálními emisemi znečišťujících láte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stacionárních zdrojů podílející se na expozici obyvatelstva nadlimitním koncentracím znečišťujících látek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ompletní nebo dílčí náhrada či rekonstrukce stávajících spalovacích a nespalovacích stacionárních zdrojů znečišťová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8428-6563-43AA-9EFE-269206F5613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systém sledování, hodnocení a předpovídání vývoje kvality ovzduší a souvisejících meteorologických aspektů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stavba a obnova systémů sledování kvality ovzduší a souvisejících meteorologických aspektů v celorepublikovém či regionálním měřítku (zejména monitorovací sítě, laboratoře, zabezpečení sběru vzorků a přenosu dat, technika pro primární zpracování dat, jejich archivaci a prezentaci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E1F-86B1-4798-BA2E-361B230EE9B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Capkova Dagmar</cp:lastModifiedBy>
  <dcterms:modified xsi:type="dcterms:W3CDTF">2015-06-24T13:41:02Z</dcterms:modified>
  <cp:revision>90</cp:revision>
  <dc:subject/>
  <dc:title>Snímek 1</dc:title>
</cp:coreProperties>
</file>