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42D-6D51-43D1-993B-3BB4ADAF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BFE-266B-4C47-8673-2C285761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8DA-782E-45CF-AF03-8D136421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249-C278-419A-A303-FC91B6AA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76C4-07BD-4F94-BF05-AE53EC7A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BACB-E2DD-436A-B021-1E05664C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6255-C6E1-4387-A164-DE6097B9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B6C3-9D7C-4410-B0E0-03982603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8939-75D2-4D54-96B9-03F16DCA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EEA3-53A8-45EB-A490-2D37AFE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7A42-DA8E-4C59-9A46-54CCF10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AB2-7CE7-406B-B5D0-64D4362F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A70-9FBC-4701-9C72-F9CE795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D9C-4EEA-4E54-AEAC-E1B1489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657F-DB5E-4451-B7C4-385D4A6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0AA-6AC2-48B0-BBFB-0C76C895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F81-80E1-4E16-A412-1B950194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AF519-2C5E-4302-9F8E-F6B7C621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A4E41-07A5-4093-BB9C-4E58AA36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15E0B-507C-47A2-BFE6-7282952D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7E028-BD62-4301-9AE1-559145CD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EB7BA-66FD-461F-98DB-ED1EC51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F39-AA7D-49DE-AF00-C9F8754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4FB86-E6CF-4B74-AD92-B534736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DC156-7977-43DE-BB42-C7332DE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DAAF3-522F-4139-BF97-468FF9B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B926E-50AC-4F78-9241-B633622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A5053-7EB5-403D-8327-747BCEEC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87DA3-B50A-4901-B382-51652714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D3403-AF23-4CA7-A107-FF4E530A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52BC-29A8-440F-A25E-970A8934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9600-93C3-4B80-B2F9-2D1E009D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4BDB-8745-457A-9908-DE589DD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C4B-EF06-4B54-87D1-2CFC6C0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622C-FF84-4EB2-AE9A-B8B59F27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42B2-9A0D-4803-AEAB-F6F0D6A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3389-FA1B-456D-8342-1BF66A8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4766-792D-46A6-A34A-3D14E816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1601-9652-4D2D-9902-F067A62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96DC0-FF96-4E04-B957-C08A007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9F8D-93BA-4F28-8591-42C6E775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FA96-0AC2-4A02-9AAB-1AEF9401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926A-146C-474E-878F-4C72566C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0670C-FDAF-4B63-A0D9-83FA7E1F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380-B267-427F-BE28-F1ADC78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9D3F6-8C3B-42FC-A254-68A0368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D759F-A2B3-496B-8ACE-DBC2B44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2AF12-E81E-48DB-A8F8-2CA8BFC8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ADDDB-9B18-423C-85F2-697A913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149A2-3DE5-4488-8883-4BDAEFB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180B6-2F5C-4A11-A0BE-FFB6609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8896B-501F-4EED-ACE7-4292A7E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B3AC4-5417-4A9B-9BB6-4306FAF2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9EDAE-D040-4728-B973-B5B63A5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47863-8D5C-4DB7-9FEB-8E69DF55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4A0-A47B-4C9B-A2D3-74B82C6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A2C54-09A7-42D6-9863-BEE74D20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BC02F-717A-4F65-A973-5121DE60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C8AB2-1340-48FF-89ED-B9D26825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C6448-6840-4151-B725-52C3331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DF900-E2A8-4D53-9127-60ECBBF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0427F-5253-4DF6-984C-36CFB8BB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FA70B-7F2A-47A3-AC13-CE101B0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59EB5-D581-4D9C-A281-C13974E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EEF4A-F1E3-4369-A340-84E9D9A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BB901-F50F-4895-9F14-F335E09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28E-2E28-4E42-A88C-BDC5F28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B3056-8542-4513-A684-7D81177E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BD533-B5BF-44ED-A6C6-C0BED63B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A9885-DF3F-4A10-9FB3-D0758852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D68B0-7CE1-42F1-BF98-A2ACB62E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4877A-2E19-495C-9B65-EEF05397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6B44F-7852-4C81-B452-A1F93439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880CB-1C25-46A7-86C4-78368BCA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56CCF-56E3-42F4-AD55-C5E98578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DF72C-7C8F-4839-93F8-B9452AE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742DE-AF31-4597-9BE3-2D09978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CB9-E688-404D-BDD6-C8DA41B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25757-A288-45B8-AE3B-EC1BEB2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D4280-9B84-4D25-92AC-A8CACD0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18727-467B-4640-88F3-48ABACEA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4F69C-ECE2-49D5-A751-C7EFA0C7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36E08-2614-4343-8449-4AEF1FB7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9A1-3443-4DE5-85B4-0A10D3F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FC0-5AFC-43AF-8524-FB648619A2A9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BC7-58F6-48F7-B49D-228BD4B0AB8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1D2-E94C-4C5F-BEE2-353A0E2E19C6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BABD-889F-4606-928A-9A91BA401C88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AE5F-DBA5-43C2-AA8E-D5F92C8BD26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286D-454B-498C-86B9-7AE97766D24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228-B3EE-4B3F-8BA8-5D01CC38D41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benefit.kr-kralovehradecky.c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928800"/>
            <a:ext cx="65725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GRANTY A DOTACE KRÁLOVÉHRADECKÉHO KRAJE VYPSANÉ V ROCE 2009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2786040"/>
            <a:ext cx="542916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Cestovní ru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Kultura a památková péč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Obce a mikroregion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Volnočasové ak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Životní prostředí a zemědě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Mezinárodní spoluprá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PREV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VZDĚLÁV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14760" y="3714840"/>
          <a:ext cx="3214440" cy="57924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714240" y="5072040"/>
          <a:ext cx="7358040" cy="57960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Žádosti musí být nově vyplňovány na oficiálním formuláři v systému Benefit (</a:t>
            </a: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s://benefit.kr-kralovehradecky.cz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 do určeného data a zároveň musí být písemná finalizovaná podoba žádosti spolu s přílohami zaslána v daném termínu na příslušné odděl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00040" y="1954080"/>
          <a:ext cx="7467480" cy="903600"/>
        </p:xfrm>
        <a:graphic>
          <a:graphicData uri="http://schemas.openxmlformats.org/drawingml/2006/table">
            <a:tbl>
              <a:tblPr/>
              <a:tblGrid>
                <a:gridCol w="6286680"/>
                <a:gridCol w="11808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5" name="Nadpis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CESTOVNÍ  RUC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00040" y="4346640"/>
          <a:ext cx="7358040" cy="868320"/>
        </p:xfrm>
        <a:graphic>
          <a:graphicData uri="http://schemas.openxmlformats.org/drawingml/2006/table">
            <a:tbl>
              <a:tblPr/>
              <a:tblGrid>
                <a:gridCol w="6215040"/>
                <a:gridCol w="11430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7" name="Zástupný symbol pro obsah 2"/>
          <p:cNvSpPr/>
          <p:nvPr/>
        </p:nvSpPr>
        <p:spPr>
          <a:xfrm>
            <a:off x="428760" y="1500120"/>
            <a:ext cx="75438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ÚPRAVA LYŽAŘSKÝCH BĚŽECKÝCH TRAS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1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ÁDÁNÍ PREZENTAČNĚ-PROPAGAČNÍCH AKCÍ V OBLASTI CESTOVNÍHO RUCHU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3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příjmu žádostí do těchto grantových programů byla 30.4. 2009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1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DPORA A ROZVOJ PROFESIONÁLNÍCH I NEPROFESIONÁLNÍCH KULTURNÍCH AKTIVIT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1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OBNOVA PAMÁTKOVÉHO FONDU NA ÚZEMÍ KRÁLOVÉHRADECKÉHO KRAJE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42960" y="278604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42960" y="4786200"/>
          <a:ext cx="7286760" cy="1528920"/>
        </p:xfrm>
        <a:graphic>
          <a:graphicData uri="http://schemas.openxmlformats.org/drawingml/2006/table">
            <a:tbl>
              <a:tblPr/>
              <a:tblGrid>
                <a:gridCol w="2714760"/>
                <a:gridCol w="3000240"/>
                <a:gridCol w="1571760"/>
              </a:tblGrid>
              <a:tr h="361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dotace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5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jekt v PR, PZ, 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2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UBLIKAČNÍ ČINNOSTI A LITERATUR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3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NOVA HISTORICKÝCH VARHAN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14240" y="207180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14240" y="4643280"/>
          <a:ext cx="7286760" cy="868680"/>
        </p:xfrm>
        <a:graphic>
          <a:graphicData uri="http://schemas.openxmlformats.org/drawingml/2006/table">
            <a:tbl>
              <a:tblPr/>
              <a:tblGrid>
                <a:gridCol w="6000840"/>
                <a:gridCol w="12859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3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NEMOVITÝCH OBJEKTŮ HISTORICKÉ HODNOTY A UMĚLECKO-ŘEMESLNÝCH DĚL, KTERÉ NEJSOU KULTURNÍ PAMÁT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5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71680" y="3000240"/>
          <a:ext cx="7286400" cy="9493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1571400"/>
              </a:tblGrid>
              <a:tr h="365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podpory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vě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25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1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sběru žádostí do vyhlášených programů byla 16. 4. 2009, s výjimkou grantu RRD062009 Podpora provozu cyklobusů v turistických regionech, u kterého byla uzávěrka 25. 3. 2009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OFESIONALIZACE SVAZKŮ OBCÍ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ÍZENÍ, AKTUALIZACE A DIGITALIZACE ÚZEMNÍCH PLÁNŮ OBCÍ DO 2000 OBYVATEL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3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14240" y="2857680"/>
          <a:ext cx="7358040" cy="731520"/>
        </p:xfrm>
        <a:graphic>
          <a:graphicData uri="http://schemas.openxmlformats.org/drawingml/2006/table">
            <a:tbl>
              <a:tblPr/>
              <a:tblGrid>
                <a:gridCol w="3286440"/>
                <a:gridCol w="4071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ximální výše podpory (obec může být zařazena pro účely dotace pouze v jednom svazku obcí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x počet obyvatel + 80 000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= hustota obyvatelstva na území kraje/ hustota obyvatelstva na území svazk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42960" y="4786200"/>
          <a:ext cx="7429320" cy="949320"/>
        </p:xfrm>
        <a:graphic>
          <a:graphicData uri="http://schemas.openxmlformats.org/drawingml/2006/table">
            <a:tbl>
              <a:tblPr/>
              <a:tblGrid>
                <a:gridCol w="5929200"/>
                <a:gridCol w="1500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ení stanove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%</a:t>
                      </a: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2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VYBAVENÍ SVAZKŮ OBCÍ ZÁKLADNÍ TECHNI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ROVOZU CYKLOBUSŮ V TURISTICKÝCH REGIONECH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6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14240" y="1616040"/>
          <a:ext cx="7358040" cy="88416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- mikroregiony od 2.500 obyvat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14240" y="3500280"/>
          <a:ext cx="7358040" cy="10670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3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42960" y="2143080"/>
          <a:ext cx="7358040" cy="5936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42960" y="4214880"/>
          <a:ext cx="7358040" cy="5792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DOTACE POSKYTOVATELŮM SOCIÁLNÍCH SLUŽEB V KRAJ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dle § 101 zákona č. 108/2006 Sb , o sociálních službách, ve znění pozdějších předpis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Finanční prostředky na 1. splátku dotace z celkového objemu dotací na rok 2009 byly poslány na konci března 2009 z Krajského úřadu Královéhradeckého kraj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Tuto splátku MPSV ČR vypočetlo následovně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643120" y="3286080"/>
          <a:ext cx="3214800" cy="579600"/>
        </p:xfrm>
        <a:graphic>
          <a:graphicData uri="http://schemas.openxmlformats.org/drawingml/2006/table">
            <a:tbl>
              <a:tblPr/>
              <a:tblGrid>
                <a:gridCol w="160668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tace 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28.034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spl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1.268.35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4240" y="4643280"/>
          <a:ext cx="7358040" cy="74628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movy pro seniory, domovy pro osoby se zdravotním postižením, domovy se zvláštním režimem a týdenní stacionář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tatní služ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5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6:23:20Z</dcterms:created>
  <dc:creator>Stanislav Javůrek</dc:creator>
  <dc:description/>
  <dc:language>en-US</dc:language>
  <cp:lastModifiedBy>Stanislav Javůrek</cp:lastModifiedBy>
  <dcterms:modified xsi:type="dcterms:W3CDTF">2009-05-10T18:38:42Z</dcterms:modified>
  <cp:revision>17</cp:revision>
  <dc:subject/>
  <dc:title>Snímek 1</dc:title>
</cp:coreProperties>
</file>