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2148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E74E-2030-49C3-B280-24CA67CE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14E1-9526-43E7-989D-82F31920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9A62-1102-47B2-8DE2-6D44BBA6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6F9A-FD66-4F43-9B5A-C5783354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792-9A84-46C1-868B-68710760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2472-AEB6-483A-B778-9E35AFBA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C300-621F-4912-BF0D-46ED5BC6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320-5946-49B5-9A5F-1C9AE79F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CC46-69FF-48D8-B2D3-9BE6A19E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3FB1-E49C-4F60-8A2E-BF748319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B0A1-0081-4373-AACE-C00DA428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CB2E-64BA-4AC4-980F-C983ADB5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13EC-5BCB-4E1D-AD6A-2E683BFDF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5661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4407e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57360"/>
            <a:ext cx="9144000" cy="37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nzultace pro starosty a místostaro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Legislativa v bytové obla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B752-D08D-4FB0-8997-5F8E928A03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67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vrh nového zákona o vlastnictví byt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občanský zákoník - návrh nove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- návrh nového kodex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zajištění zdrojů - návrh novely zák. o rozpočtovém určení daní - připravuje 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- návrh novely zákona o Fondu - vratky dotací -   připravuje s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vrhy nařízení vlády k jednotlivým novým podpůrným nástrojům - budou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připravovány podle projektu nových opatření k podpoře investic do bydlení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ovela zák. č. 107/2006 Sb.- prodloužení cílového stavu deregulace do r. 2012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Poznámky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Pro jednání vlády: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prava „Návrh Aktualizace nástrojů bytové politiky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16000" y="981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Legislativní opat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5BB8-5F1F-4EDF-A4BD-564230DED60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424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rácen k dopracování dle připomínek členů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Legislativní rady vlády, návrh  je dopracováv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ílem je upřesnění vlastnictví, způsoby hlasování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orgánů výboru společenství  vlastníků a umožnění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hlasování „per rollam“ – zkvalitnění funkce SVJ,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snížení negativních vlivů pasivního chování členů SV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16286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Návrh nového zákona o vlastnictví by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F7EA-A363-4596-B911-3F39E931E18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806436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návrh novel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v oblasti nájmu bytů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ředloženo do Legislativní rady vlá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ákladem je posílení postavení vlastník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ílení smluvní volnosti účastníků nájemního vztah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ončení regulace nájemného a nástup režimu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stanovení nájemného dohodo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říslušnost soudu ve sporech o výši nájemného,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možnost stanovení výše nájemného soudem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mezení přechodu nájmu po smrti nájem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16000" y="14842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FFA7-EE3C-4346-8B74-4817CFAAE33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Děkuji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C0D3-8EF8-4BE5-940A-44CC914335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2:07:40Z</dcterms:created>
  <dc:creator>Martina Přibylová</dc:creator>
  <dc:description/>
  <dc:language>en-US</dc:language>
  <cp:lastModifiedBy>Kamil Jan Svoboda</cp:lastModifiedBy>
  <cp:lastPrinted>2009-01-28T11:09:09Z</cp:lastPrinted>
  <dcterms:modified xsi:type="dcterms:W3CDTF">2009-05-11T21:14:13Z</dcterms:modified>
  <cp:revision>83</cp:revision>
  <dc:subject/>
  <dc:title>Snímek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9961724</vt:r8>
  </property>
  <property fmtid="{D5CDD505-2E9C-101B-9397-08002B2CF9AE}" pid="3" name="_AuthorEmail">
    <vt:lpwstr>Marcela.Pavlova@mmr.cz</vt:lpwstr>
  </property>
  <property fmtid="{D5CDD505-2E9C-101B-9397-08002B2CF9AE}" pid="4" name="_AuthorEmailDisplayName">
    <vt:lpwstr>Pavlová Marcela</vt:lpwstr>
  </property>
  <property fmtid="{D5CDD505-2E9C-101B-9397-08002B2CF9AE}" pid="5" name="_EmailSubject">
    <vt:lpwstr>Žádost o přípravu prezentace</vt:lpwstr>
  </property>
  <property fmtid="{D5CDD505-2E9C-101B-9397-08002B2CF9AE}" pid="6" name="_PreviousAdHocReviewCycleID">
    <vt:r8>-665579781</vt:r8>
  </property>
  <property fmtid="{D5CDD505-2E9C-101B-9397-08002B2CF9AE}" pid="7" name="_ReviewingToolsShownOnce">
    <vt:lpwstr/>
  </property>
</Properties>
</file>