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34B-6A60-4C6D-9C2C-122F15EC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7A2B-CA7F-4F3F-99CD-6009817E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96F5-F4B6-4AEE-A407-4524F103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0BCF-3225-4F16-8D70-7D1211F1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75E3-0BCE-4AAA-ABFC-CAA6B159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B13C-7C81-4166-B12D-12A2DAF9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CB71-9DC7-44C0-872B-49BA7F6D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306E-134B-4232-ADD3-03347A96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B158-F472-48FF-8D41-83FDD798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7361-4E87-4E78-B430-30B0FA87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90E6-594E-4B3E-B1F3-1EB0AF80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264F-6E24-4518-897C-5DA73592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3D89-EB72-4F50-B113-91FFD2BA5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mmr.cz/uploads/MMR_Temata/REGIONALNI_POLITIKA/Programy_Dotace_RP/081201_zasady_POV.pdf" TargetMode="External"/><Relationship Id="rId2" Type="http://schemas.openxmlformats.org/officeDocument/2006/relationships/hyperlink" Target="http://www.mmr.cz/uploads/MMR_Temata/REGIONALNI_POLITIKA/Programy_Dotace_RP/081201_zasady_VA.pdf" TargetMode="External"/><Relationship Id="rId3" Type="http://schemas.openxmlformats.org/officeDocument/2006/relationships/hyperlink" Target="http://www.mmr.cz/uploads/MMR_Temata/REGIONALNI_POLITIKA/Programy_Dotace_RP/080318_Zasady_217117.doc" TargetMode="External"/><Relationship Id="rId4" Type="http://schemas.openxmlformats.org/officeDocument/2006/relationships/hyperlink" Target="http://www.mmr.cz/uploads/MMR_Temata/REGIONALNI_POLITIKA/Programy_Dotace_RP/081201_zasady_BO.pdf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0920" y="5661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4407e"/>
                </a:solidFill>
                <a:latin typeface="Arial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28640"/>
            <a:ext cx="9144000" cy="42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nzultace pro starosty a místostaro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Dotační programy MMR ČR v oblasti bytové a regionální politi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10B8-8DE1-4586-B0C2-292150A911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2. Finanční prostředky na rok 2009</a:t>
            </a: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2276640"/>
          <a:ext cx="8785440" cy="2941560"/>
        </p:xfrm>
        <a:graphic>
          <a:graphicData uri="http://schemas.openxmlformats.org/drawingml/2006/table">
            <a:tbl>
              <a:tblPr/>
              <a:tblGrid>
                <a:gridCol w="5472360"/>
                <a:gridCol w="1944720"/>
                <a:gridCol w="1368360"/>
              </a:tblGrid>
              <a:tr h="13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podpora bydlení (SFR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tečnost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počet 200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rekonstrukcí panelových bytových domů (program „PANEL“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věry mladým domácnostem na pořízení by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9880-EE1D-48B5-9C66-CD164638F6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9280" y="242100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cílem je podpora celkové rekonstrukce a zateplení, prodloužení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 životnosti, modernizace, zvýšení standardu bydlení, nikoliv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 pouze jednotlivé oprav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odmínky  - nař. vlády č. 299/2001 Sb. – všem vlastníkům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 panelových bytů a dom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úroková dotace ve výši 2 procentních bodů po dobu splácení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 úvěru, max. 15 l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bankovní záruka za splácení úvěrů (ČMZRB, a.s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informační a poradenská střediska poskytnou metodickou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 pom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0" t="0" r="12942" b="0"/>
          <a:stretch/>
        </p:blipFill>
        <p:spPr>
          <a:xfrm>
            <a:off x="0" y="0"/>
            <a:ext cx="9145440" cy="907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9280" y="981000"/>
            <a:ext cx="8713800" cy="17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rogram podpora bydlení (SFRB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dpora rekonstrukcí panelových bytových domů (program „PANEL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F1EF-0C04-4268-8D3D-2729D16BBD7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79280" y="2276280"/>
            <a:ext cx="8964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úvěr do výše 300 000 Kč splatný do 20 let, fixní úrok 2 % p.a.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po celou dobu splác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samotná osoba pečující alespoň o jedno nezletilé dítě, která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v roce podání žádosti nedovrší 36 let věku nebo manželé,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z nichž alespoň jeden splňuje toto věkové kriter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na koupi bytu nebo rod. domku s 1 by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na výstavbu bytu nebo rod. domku s 1 by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na získání družstevního bytu převodem členských práv nebo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úhradou členského vklad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narodí-li se dítě v průběhu splácení úvěru, Fond sníží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nesplacenou část jistiny o 30 000 Kč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12942" b="0"/>
          <a:stretch/>
        </p:blipFill>
        <p:spPr>
          <a:xfrm>
            <a:off x="0" y="0"/>
            <a:ext cx="9145440" cy="1125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9280" y="1197000"/>
            <a:ext cx="8713800" cy="17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rogram podpora bydlení (SFRB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Úvěry mladým domácnostem na pořízení by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6B2D-020C-4B1F-A6C3-C7EEBC6BCC0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9280" y="1916280"/>
            <a:ext cx="8964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ová opatření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s platností od roku 2010, budou-li  na ně finanční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       prostředky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dpora výstavby nájemních bytů - formou garancí SFR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dpora výstavby sociálních byt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vozní podpora pronajímatelů sociálních byt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dpora výstavby a rekonstrukcí technické infrastruktury – formou garancí SFR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ozšíření programu PANEL na nepanelové do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1557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Nové nástroje podpory investic do byd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B560-0CA8-42ED-910E-995BA2E55CE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42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136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íl:  podpora orientace podnikatelských záměrů na výstavbu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nájemních byt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rma podpory: záruky za dlouhodobé úvěry cestou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arančních nástrojů SFR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říjemci podpory: jakákoliv právnická nebo fyzická osob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vropský kontext: nezbytná notifikace u Evropské komi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9640" y="1484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a)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Podpora výstavby nájemních bytů – formou garancí SF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D814-04BC-4821-A51F-1F62D231852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42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136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íl: podpora výstavby malých a dostupných bytů pro tu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kupinu obyvatel, která si není schopna z důvodů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ízkého příjmu pořídit bydle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ílová skupina: domácnosti s vymezeným příjm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rma podpory: investiční dotace na výstavbu nájemních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yt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říjemci podpory: jakákoli právnická nebo fyzická osob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vropský kontext: nezbytná notifikace u Evropské komi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9640" y="1484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b)   Podpora výstavby sociálních by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51E3-5A93-4BFD-8D7F-79E5D571AF9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42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2803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íl: využít již existujících bytů pro bydlení sociálně potřebných oso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ílová skupina: domácnosti, které nejsou schopné hradit zvýšené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ájemné a nemohou z objektivních důvodů (věk, zdravotní stav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apod.)  přizpůsobit bydlení svým příjmovým možnost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rma podpory: provozní podpora poskytovaná pronajímateli,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kompenzující rozdíl mezi dosavadní úrovní nájemného 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úrovní v místě a čase obvyklo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říjemci podpory: pronajímatelé na základě smlouvy mezi obcí a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najímatel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vropský kontext: není třeba notifikov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9640" y="1197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c)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Provozní podpora pronajímatelů sociálních bytů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9513-56FF-464F-B428-491E03930ED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42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79912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cíl: rozšíření nabídky zainvestovaných pozemků pro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následnou výstavbu bytových a rodinných dom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forma podpory: záruky za dlouhodobé úvěry cestou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garančních nástrojů SFR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říjemci podpory: jakákoli právnická nebo fyzická osob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Evropský kontext: nezbytná notifikace u Evropské komi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9640" y="14842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d)  Podpora výstavby a rekonstrukcí technické infrastruktury – formou garancí SF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A1B0-CF6B-42B3-AB65-F8135C26288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42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7991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íl: zajištění rovného nediskriminačního přístupu vlastníků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domů pro bydlení ke státní podpoře, stimulace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komplexní rekonstrukce bytových domů, podpora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energetických úsp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rma podpory: úroková dotace k bankovnímu úvě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říjemci podpory: vlastníci bytových domů postavených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jakoukoli stavební technologi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vropský kontext: nezbytná notifikace u Evropské komis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9640" y="1484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e)  Rozšíření programu PANEL na nepanelové d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D61F-5C01-4079-A683-BE6C3671C6B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87280" y="2781360"/>
            <a:ext cx="70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98560" y="5345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086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92000" y="224172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000" y="519444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000" y="443700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2000" y="299736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5661000"/>
            <a:ext cx="676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2000" y="371628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9220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2492280"/>
            <a:ext cx="8820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0000"/>
                </a:solidFill>
                <a:latin typeface="Arial"/>
              </a:rPr>
              <a:t>2. Programy v oblasti regionální politiky pro rok 2009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3932-D538-4EC4-9CA3-45DC21D99E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Obsah prezentac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5661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4407e"/>
                </a:solidFill>
                <a:latin typeface="Arial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y v oblasti bytové politi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y v oblasti regionální polit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tace na územní plá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DA0D-B0FF-47BB-B58B-4C655328E7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Národní programy v roce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rogram obnovy venko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ásady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mr.cz/uploads/MMR_Temata/REGIONALNI_POLITIKA/Programy_Dotace_RP/081201_zasady_POV.pd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odpora úprav bývalých vojenských areálů k obecnímu využit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ásady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mr.cz/uploads/MMR_Temata/REGIONALNI_POLITIKA/Programy_Dotace_RP/081201_zasady_VA.pd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Obnova obecního a krajského majetku postiženého živelní nebo jinou pohrom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ásady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mmr.cz/uploads/MMR_Temata/REGIONALNI_POLITIKA/Programy_Dotace_RP/080318_Zasady_217117.doc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ezbariérové obce – nový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ásady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mmr.cz/uploads/MMR_Temata/REGIONALNI_POLITIKA/Programy_Dotace_RP/081201_zasady_BO.pdf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"/>
          <p:cNvPicPr/>
          <p:nvPr/>
        </p:nvPicPr>
        <p:blipFill>
          <a:blip r:embed="rId5"/>
          <a:srcRect l="0" t="0" r="12951" b="0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868F-72F0-4439-B529-BE43827C75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785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Finanční prostředky na rok 2009</a:t>
            </a: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9280" y="1844640"/>
          <a:ext cx="8785440" cy="4392720"/>
        </p:xfrm>
        <a:graphic>
          <a:graphicData uri="http://schemas.openxmlformats.org/drawingml/2006/table">
            <a:tbl>
              <a:tblPr/>
              <a:tblGrid>
                <a:gridCol w="5472360"/>
                <a:gridCol w="1944720"/>
                <a:gridCol w="13683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tečnost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vrh rozpočtu 200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úprav bývalých vojenských areálů k obecnímu využit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obnovy venko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nova obecního a krajského majetku postiženého živelní nebo jinou pohromou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bariérové ob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vý program)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2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F952-5333-4E40-9DD0-53512D1D49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Program obnovy venkova: </a:t>
            </a:r>
            <a:br>
              <a:rPr sz="3400"/>
            </a:b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Dotační titul č. 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ázev: Podpora vítězů soutěže Vesnice rok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íjemci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tace do výše 80% celk. přím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edmět dot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nova a údržba venkovské zástavby a občanské vybavenost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nova a zřizování veřejné zeleně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konstrukce a výstavba místních komunikací, stezek a veřejného osvětle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prava a realizace propagačních materiálů obce v souvislosti s umístěním v soutěži Vesnice ro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B291-9EB8-4985-8994-CE6155A73C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Dotační titul č. 1 - pokračován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3628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lad o vlastnictví majetk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 akcí stavebního charakte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části projektové dokumentace zahrnující průvodní zprávu, souhrnnou technickou zprávu a situaci stavby jako součást dokumentace ak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lady požadované podle zákona č. 183/2006 Sb., o územním plánování a stavebním řádu (stavební zákon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de-li o stavby, terénní úpravy zařízení a udržovací práce podle § 103 stavebního zákona nevyžadující stavební povolení ani ohlášení, doloží se pouze soulad akce, pro niž je požadována dotace, se schválenou územně plánovací dokument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3698-D472-4CA9-95DA-C788277129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Program obnovy venkova: </a:t>
            </a:r>
            <a:br>
              <a:rPr sz="3400"/>
            </a:b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Dotační titul č. 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820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ázev: Podpora zapojení  dětí a mládeže do komunitního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života v obc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íjemci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ce do 3000 obyvatel, svazky ob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otace do 70% celk. přímých nákladů s limitem dotace min. 50 tis. Kč, max. 300 tis. K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edmět dota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dou podporovány akce s výstupy sloužícími převážně dětem a mládeži, na jejichž výběru a přípravě (resp. realizaci) se děti a mládež prokazatelně podílely (resp. budou podílet), a které jsou zaměřené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novu a údržbu venkovské zástavby a občanské vybavenost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pravu veřejných prostranství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novu a zřizování veřejné zelen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konstrukci nebo vybudování zařízení pro volnočasové ak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A269-B0E0-4704-A020-936C12786D0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Dotační titul č. 2 - pokračován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362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lad o vlastnictví majet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is přípravy akce, zapojení dětí a mládeže včetně obrazové dokumentace, harmonogram akce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 akcí stavebního charakter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části projektové dokumentace zahrnující průvodní zprávu, souhrnnou technickou zprávu a situaci stavby jako součást dokumentace ak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lady požadované podle zákona č. 183/2006 Sb., o územním plánování a stavebním řádu (stavební zákon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de-li o stavby, terénní úpravy zařízení a udržovací práce podle § 103 stavebního zákona nevyžadující stavební povolení ani ohlášení, doloží se pouze soulad akce, pro niž je požadována dotace, se schválenou územně plánovací dokument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1405-67A9-4963-A37D-9B3AFE71AC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Program obnovy venkova: </a:t>
            </a:r>
            <a:br>
              <a:rPr sz="3400"/>
            </a:b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Dotační titul č. 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6868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Arial"/>
              </a:rPr>
              <a:t>Název: Podpora spolupráce obcí na obnově a rozvoji venkov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jemci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ce do 3000 obyvatel, svazky ob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tace do 70% celkových přímých nákladů s limitem dotace max. 200 tis. K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dmět dot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ce nadregionálního významu zaměřené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255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365040"/>
                <a:tab algn="l" pos="4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ezentace úspěšných projektů zaměřených na obnovu a rozvoj venkov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255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365040"/>
                <a:tab algn="l" pos="4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měna zkušeností při přípravě projektů zaměřených na obnovu a rozvoj venkov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255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365040"/>
                <a:tab algn="l" pos="4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pora spolupráce a odborného vzdělávání zástupců obcí zaměřeného na obnovu a rozvoj venk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5040"/>
                <a:tab algn="l" pos="4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17B2-BAE1-44CF-8A55-491DE0FF22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Dotační titul č. 3 - pokračován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362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lad o vlastnictví majet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is akce, její cíle at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 akcí stavebního charakter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části projektové dokumentace zahrnující průvodní zprávu, souhrnnou technickou zprávu a situaci stavby jako součást dokumentace ak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lady požadované podle zákona č. 183/2006 Sb., o územním plánování a stavebním řádu (stavební zákon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de-li o stavby, terénní úpravy zařízení a udržovací práce podle § 103 stavebního zákona nevyžadující stavební povolení ani ohlášení, doloží se pouze soulad akce, pro niž je požadována dotace, se schválenou územně plánovací dokument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CAE3-FD06-4523-922D-1A13D61FABD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686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rogram obnovy venkova: Dotační titul č.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62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ázev: Podpora obnovy drobných sakrálních staveb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obcí (nový dotační titu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jemci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bce do 3000 obyvatel, svazek obc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dotace do 70% celk. nákladů s limitem dotace min. 50 tis. Kč, max. 400 tis. K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dmět dot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udou podporovány akce zaměřené na obnovu sakrálních staveb nalézajících se v katastrálním území obce, které nejsou prohlášeny kulturním památkou a jsou v majetku obce. Jedná se zejména o obnovu staveb jak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aple, kaplička, socha, boží muka, kří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úprava prostranství v okolí drobných sakrálních stave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1A67-1C43-439E-BF13-FD16CA0E370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Dotační titul č. 4 - pokračo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3628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is akce, harmonogram akce (termín realizace akce, termín závěrečného vyhodnocení akce) apod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části projektové dokumentace zahrnující průvodní zprávu, souhrnnou technickou zprávu a situaci stavby jako součást dokumentace akce (podle charakteru stavby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lady požadované podle zákona č. 183/2006 Sb., o územním plánování a stavebním řádu v části čtvrté: Stavební řád (podle charakteru stavby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lad o vlastnictví majetku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B2B7-55BD-400C-98BD-C757F300959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87280" y="2781360"/>
            <a:ext cx="70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8560" y="5345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086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2000" y="224172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2000" y="519444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2000" y="443700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2000" y="299736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5661000"/>
            <a:ext cx="676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2000" y="371628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9220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2492280"/>
            <a:ext cx="8820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0000"/>
                </a:solidFill>
                <a:latin typeface="Arial"/>
              </a:rPr>
              <a:t>1. Programy v oblasti bytové politiky pro rok 2009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643A-DF0B-4D71-B380-6407D1BA86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1471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Program obnovy venkova: </a:t>
            </a:r>
            <a:br>
              <a:rPr sz="3600"/>
            </a:b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Dotační titul č.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ázev: Podpora zapojení rómské komunity do života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obce a společnosti (nový dotační titu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jemci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bce do 3000 obyvatel, které mají min. 4 % romského etni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dotace do 70% celk. nákladů,dot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limitem min. 50 tis. Kč, max. 500 tis. K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dmět dot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občanská vybavenost, zařízení pro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volnočasové aktivity,související infrastruktur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AE94-71BC-4A0C-9B3D-747FAB5F93D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Dotační titul č. 5 - pokračová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62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lad o vlastnictví majetk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části projektové dokumentace zahrnující průvodní zprávu, souhrnnou technickou zprávu a situaci stavby jako součást dokumentace akc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lady požadované podle zákona č. 183/2006 Sb., o územním plánování a stavebním řádu (stavební zákon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án práce obce na zapojení romské komunity (aktivity obce, podpora romských spolků, sdružení),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e o využívání jiných dotačních programů pro práci s romskou komunito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kt na využití vybudovaného nebo rekonstruovaného objektu dokladující životnost ak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A19F-EB7F-4D97-AD36-E1537183F38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odpora úprav bývalých vojenských areálů 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k obecnímu využití: Dotační titul č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ázev: Infrastruktura a rekonstrukce</a:t>
            </a:r>
            <a:r>
              <a:rPr b="1" lang="cs-CZ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jemci: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ec, svazek ob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otace do 75% celk. nákladů v daném roce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limitem dotace min. 100 tis.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dmět dot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konstrukce převzatých kasárenských areálů, popřípadě dalších objektů a ploch pro nové civilní využit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konstrukci, příp. vybudování nové infrastruktury v kasárnách nebo vojenských areálech související s novým využitím bývalých vojenských objektů a ploch nebo související infrastruktury umožňující napojení na nadřazené sítě, obnovu místních komunikací, parkovacích ploch a veřejného osvětlen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řevzatých objektů, zařízení a pozemků pro účely rozvoje cestovního ruchu, rekreace a sport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vedení demolic devastovaných nebo nevyužitelných objektů bránících provedení revitalizace areálů a uvolněných plo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CA8D-9D6A-4BF0-8D9F-5C826D5071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Dotační titul č. 1 - pokrač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362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lad o vlastnictví majetk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části projektové dokumentace zahrnující průvodní zprávu, souhrnnou technickou zprávu a situaci stavby jako součást dokumentace akc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lady požadované podle zákona č. 183/2006 Sb., o územním plánování a stavebním řádu (stavební zákon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lad o souladu akce se schválenou územně plánovací dokumentaci, jde-li o stavby, terénní úpravy zařízení a udržovací práce podle § 103 stavebního zákona nevyžadující stavební povolení ani ohlášení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lady pro provedení demolic devastovaných nebo nevyužitelných objekt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233-B0C1-4002-8E3D-F935E7AB2BA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odpora úprav bývalých vojenských areálů 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k obecnímu využití: Dotační titul č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ázev: Aktualizace územně plánovací dokumentace ob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íjemci: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Forma podpory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otace do 75% celk. nákladů v daném roce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limitem dotace min. 100 tis.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edmět dotac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tualizace rozpracované územně plánovací dokumenta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řízení změn platné územně plánovací dokumenta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řízení nové územně plánovací dokumentace – pouze v případě výrazně postižených ob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ílohy žád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klad o vlastnictví majet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4BAF-6C49-4A08-ADAC-E78F2497EDC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2184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Obnova obecního a krajského majetku postiženého živelní nebo jinou pohromou : Dotační titul č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3628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íjemci: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ce, svazky obcí a kraje, pokud </a:t>
            </a: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byl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jejich území v důsledku živelné pohromy vyhlášen stav nebezpečí nebo nouzový st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cím a svazkům - dotace do 100% celk. nákladů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ajům – dotace do 50% celk. ná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edmět dotac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konstrukce nebo opravu majetku obce nebo svazu obcí poškozeného živelní nebo jinou pohromou, popř. na pořízení nového majetku plnícího tutéž funkci, kterou plnil majetek pohromou ničený (jde zejména o mosty, místní komunikace, veřejná prostranství, obecní stavby a zařízení včetně staveb a zařízení preventivní infrastruktu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zn.: Výzva k předkládání žádostí o poskytnutí dotací za škody vzniklé v roce 2008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byla ukončena ke dni 16. února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C41E-7E16-43ED-A0D8-C81AC0174ED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Dotační titul č. 1 - pokrač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362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umentace požadovaná podle zákona   č.183/2006 Sb., o územním plánování a stavebním řádu (stavební zákon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ktová dokumentace zahrnující průvodní zprávu, souhrnnou technickou zprávu a situaci stavby jako součást dokumentace akce včetně náležité fotodokumentace poškozeného majetk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 (položkový rozpočet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vrzení na formuláři „Prohlášení krajského úřadu k žádosti obce (svazku obcí, kraje) o dotace financované z programu 217 117 „Obnova obecního a krajského majetku postiženého živelní nebo jinou pohromou“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3F80-A45F-48C1-B9E9-FA2F73F02C2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2184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Obnova obecního a krajského majetku postiženého živelní nebo jinou pohromou : Dotační titul č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3628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íjemci: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ce, svazky obcí a kraje postižené živelní nebo jinou pohromou, pokud </a:t>
            </a: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neby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ro jejich území v důsledku živelné pohromy vyhlášen stav nebezpečí nebo nouzový st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cím a svazkům - dotace do 80% celk. nákladů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ajům – dotace do 50% celk. ná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edmět dotac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konstrukce nebo opravu majetku obce nebo svazu obcí poškozeného živelní nebo jinou pohromou, popř. na pořízení nového majetku plnícího tutéž funkci, kterou plnil majetek pohromou ničený (jde zejména o mosty, místní komunikace, veřejná prostranství, obecní stavby a zařízení včetně staveb a zařízení preventivní infrastruktu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zn.: Výzva k předkládání žádostí o poskytnutí dotací za škody vzniklé v roce 2008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byla ukončena ke dni 16. února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880E-AD12-4234-A356-ACA4111DED3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Dotační titul č. 2 - pokrač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362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umentace požadovaná podle zákona   č.183/2006 Sb., o územním plánování a stavebním řádu (stavební zákon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ktová dokumentace zahrnující průvodní zprávu, souhrnnou technickou zprávu a situaci stavby jako součást dokumentace akce včetně náležité fotodokumentace poškozeného majetk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 (položkový rozpočet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vrzení na formuláři „Prohlášení krajského úřadu k žádosti obce (svazku obcí, kraje) o dotace financované z programu 217 117 „Obnova obecního a krajského majetku postiženého živelní nebo jinou pohromou“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43A0-763E-4071-851F-FF4AEC23595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Program – Bezbariérové obce</a:t>
            </a: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0755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jemci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bce,mě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dotace do 50 % celk. nákladů, dotace s limitem min. 100 tis. K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dmět dot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bezbariérové vstupy do budov městských a obecních úřadů, DPS, výtahy,WC, transportní technologi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31EC-0351-40EB-B3FD-27FEA9F1F11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785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1. Finanční prostředky na rok 2009</a:t>
            </a: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1844640"/>
          <a:ext cx="8785440" cy="4826160"/>
        </p:xfrm>
        <a:graphic>
          <a:graphicData uri="http://schemas.openxmlformats.org/drawingml/2006/table">
            <a:tbl>
              <a:tblPr/>
              <a:tblGrid>
                <a:gridCol w="5472360"/>
                <a:gridCol w="1657080"/>
                <a:gridCol w="1656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Podpora bydlení (MM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tečnost 2008 v tis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vrh rozpočtu 2009 v tis. Kč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výstavby technické infrastruktu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 46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výstavby podporovaných byt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 12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regenerace panelových sídliš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 66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oprav olověných rozvodů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63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kem Podpora bydl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 88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0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CCEB-7437-42C7-AA47-DB51AB6F7A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rogram Bezbariérové obce - pokrač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362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lad o vlastnictví majet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ová dokumentace zahrnující průvodní zprávu, souhrnnou technickou zprávu a situaci stavby jako součást dokumentace ak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lady požadované podle zákona č. 183/2006 Sb., o územním plánování a stavebním řádu (stavební zákon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lad o schválení bezbariérové trasy obce Řídícím výborem Národního rozvojového programu mobility pro všechn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válený rozpočet obce v době podání žádost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hlášení o počtu  sociálních nebo zdravotních zařízení zaměřených na péči o osoby s omezenou schopností ohybu a orientace v ob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32CF-4D41-4E3B-95B4-55AF515D14B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87280" y="2781360"/>
            <a:ext cx="70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98560" y="5345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086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2000" y="224172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2000" y="519444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92000" y="443700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2000" y="299736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63640" y="5661000"/>
            <a:ext cx="676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2000" y="371628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9220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1628640"/>
            <a:ext cx="88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0000"/>
                </a:solidFill>
                <a:latin typeface="Arial"/>
              </a:rPr>
              <a:t>Termíny MM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24000" y="2708280"/>
            <a:ext cx="82087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hlášení programů na rok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. listopadu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ín ukončení příjmu žádost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řezna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FD01-2F82-435E-A99C-F71DB0E0255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87280" y="2781360"/>
            <a:ext cx="70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98560" y="5345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086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92000" y="224172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92000" y="519444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92000" y="443700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92000" y="299736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63640" y="5661000"/>
            <a:ext cx="676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92000" y="371628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9220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249228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0000"/>
                </a:solidFill>
                <a:latin typeface="Arial"/>
              </a:rPr>
              <a:t>3. Dotace na územní plány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524E-8CF3-464D-9310-ADAE19DDE3C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50920" y="5661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4407e"/>
                </a:solidFill>
                <a:latin typeface="Arial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5280" y="1125360"/>
            <a:ext cx="8569440" cy="55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O podporu můžou požádat obce nad 500 obyvatel (včetně), které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plní alespoň jednu z následujících podmíne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bec leží v rozvojových oblastech a osách nebo ve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specifických oblastech vymezených v Politice územního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rozvoje ČR 2006, případně zpřesněných v zásadách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územního rozvoje kraje, neb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minimálně 10 staveb pro bydlení na území obce se nachází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ve stanoveném záplavovém území nebo jejich obytné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místnosti určené pro bydlení byly po 1. lednu 1997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zaplaveny a tyto stavby nemají dosud zajištěnou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protipovodňovou ochranu, neb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bec musí do nového územního plánu zapracovat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rozvojový záměr nadmístního významu obsažený v Politice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územního rozvoje 2006 nebo v územně plánovací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dokumentaci kraje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47628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Dotace na územní plán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0C2D-DC0E-4832-B999-A36A56D97DD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50920" y="5661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4407e"/>
                </a:solidFill>
                <a:latin typeface="Arial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34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Dotace na územní plá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2349360"/>
            <a:ext cx="87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imální výše dotace: 3 mil.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díl spolufinancování: 1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um vyhlášení výzvy: 30.1.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BE1-29D2-4D37-8F75-BE2C67DC673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Děkuji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3CF6-5161-4E76-95BC-6E0CB5D303C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9280" y="2421000"/>
            <a:ext cx="896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program zahrnuje věcné podmínky dané nařízením vlády č. 494/2000 Sb., o podmínkách poskytování dotací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e státního rozpočtu na podporu regenerace panelových sídliš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taci může získat obec, na jejímž území se nachází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anelové sídliště (nejméně 150 b.j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ec má schválený územní plán obce a projekt regenera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anelového sídliš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tace může být poskytnuta až do výše 50 % rozpočtovýc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12942" b="0"/>
          <a:stretch/>
        </p:blipFill>
        <p:spPr>
          <a:xfrm>
            <a:off x="0" y="0"/>
            <a:ext cx="9145440" cy="1125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1197000"/>
            <a:ext cx="871380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rogram podpora bydlení (MMR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dpora regenerace  panelových sídliš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E607-4707-44DC-B6EC-6ACF4AAC243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9280" y="2205000"/>
            <a:ext cx="896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odprogram stanovuje podmínky pro poskytování státních dotací na výstavbu dopravní a technické infrastruktury pro následnou výstavbu bytových domů, rodinných domů nebo bytových a rodinných domů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harakter a výše podp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íjemce dotace je o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aximálně 50 tis. Kč na následně vybudovanou bytovou jednot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aximálně 200 tis. EUR na 3 roky – dle pravidla de minimis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tace je poskytována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emní komun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odovodní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anal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12942" b="0"/>
          <a:stretch/>
        </p:blipFill>
        <p:spPr>
          <a:xfrm>
            <a:off x="0" y="0"/>
            <a:ext cx="9145440" cy="981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9280" y="1052640"/>
            <a:ext cx="871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rogram podpora bydlení (MMR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dpora výstavby technické infrastruktury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5DD4-586F-43CB-9940-1CFCFC7800B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9280" y="2205000"/>
            <a:ext cx="8785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stavba nájemných bytů pro osoby v nepříznivé sociální situaci, jejichž snížená soběstačnost je způsobená věkem nebo zdravotním stavem nebo pro osoby, které v důsledku nepříznivých životních okolností nemají přístup k bydlení a jsou schopné plnit povinnosti vyplývající z nájemného vztah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tační titu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ečovatelský byt (PČB) - výše dotace na jednu bytovou jednotku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600 – 650 tis.Kč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stupní byt (VB) - výše dotace na jednu bytovou jednotku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250 – 650 tis. Kč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harakter podp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aximálně 200 tis. EUR na 3 roky – dle pravidla de mini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íjemce dotace: O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12942" b="0"/>
          <a:stretch/>
        </p:blipFill>
        <p:spPr>
          <a:xfrm>
            <a:off x="0" y="0"/>
            <a:ext cx="9145440" cy="1125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9280" y="1125360"/>
            <a:ext cx="8713800" cy="10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rogram podpora bydlení (MMR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dpora výstavby podporovaných byt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BCB4-B6E2-40DB-8CDC-F6150BA2A62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79280" y="2133720"/>
            <a:ext cx="89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Snížení koncentrace olova v pitné vodě výměnou domovních olověných rozvod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Příjemce dotace: </a:t>
            </a:r>
            <a:br>
              <a:rPr sz="2500"/>
            </a:b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Vlastník nebo spoluvlastník domu či bytu v objektu s domovními olověnými rozvod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Charakter dota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10 tisíc Kč na jednu bytovou jednotku, výměna </a:t>
            </a:r>
            <a:br>
              <a:rPr sz="2500"/>
            </a:b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 olověných rozvodů musí být provedena v celém domě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Dotace má neinvestiční charak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Maximálně 200 tis. EUR na 3 roky – dle pravidla de</a:t>
            </a:r>
            <a:br>
              <a:rPr sz="2500"/>
            </a:b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 minim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0" r="12942" b="0"/>
          <a:stretch/>
        </p:blipFill>
        <p:spPr>
          <a:xfrm>
            <a:off x="0" y="0"/>
            <a:ext cx="9145440" cy="907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9280" y="907920"/>
            <a:ext cx="8713800" cy="10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rogram podpora bydlení (MMR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dpora oprav domovních olověných rozvod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EB23-2692-4455-ACB5-9C417C5BCC9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87280" y="2781360"/>
            <a:ext cx="70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98560" y="5345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086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2000" y="224172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2000" y="519444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2000" y="443700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2000" y="299736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63640" y="5661000"/>
            <a:ext cx="676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00" y="371628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9220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628640"/>
            <a:ext cx="88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0000"/>
                </a:solidFill>
                <a:latin typeface="Arial"/>
              </a:rPr>
              <a:t>Termíny MM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4000" y="2708280"/>
            <a:ext cx="82087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yhlášení programů na rok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8. listopadu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ín pro předložení žádost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března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5F46-21CD-451D-B9D3-7228052895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2:07:40Z</dcterms:created>
  <dc:creator>Martina Přibylová</dc:creator>
  <dc:description/>
  <dc:language>en-US</dc:language>
  <cp:lastModifiedBy>Kamil Jan Svoboda</cp:lastModifiedBy>
  <cp:lastPrinted>2009-01-28T11:06:47Z</cp:lastPrinted>
  <dcterms:modified xsi:type="dcterms:W3CDTF">2009-05-11T21:15:10Z</dcterms:modified>
  <cp:revision>114</cp:revision>
  <dc:subject/>
  <dc:title>Snímek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81128759</vt:r8>
  </property>
  <property fmtid="{D5CDD505-2E9C-101B-9397-08002B2CF9AE}" pid="3" name="_AuthorEmail">
    <vt:lpwstr>Martina.Pribylova@mmr.cz</vt:lpwstr>
  </property>
  <property fmtid="{D5CDD505-2E9C-101B-9397-08002B2CF9AE}" pid="4" name="_AuthorEmailDisplayName">
    <vt:lpwstr>Přibylová Martina</vt:lpwstr>
  </property>
  <property fmtid="{D5CDD505-2E9C-101B-9397-08002B2CF9AE}" pid="5" name="_EmailSubject">
    <vt:lpwstr>Odborná komise pro rozvoj venkova-regionálka a bytovka</vt:lpwstr>
  </property>
  <property fmtid="{D5CDD505-2E9C-101B-9397-08002B2CF9AE}" pid="6" name="_PreviousAdHocReviewCycleID">
    <vt:r8>-1199961724</vt:r8>
  </property>
  <property fmtid="{D5CDD505-2E9C-101B-9397-08002B2CF9AE}" pid="7" name="_ReviewingToolsShownOnce">
    <vt:lpwstr/>
  </property>
</Properties>
</file>