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0CFD-FF63-4B69-81BA-D22644A8D8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lokace OPŽP 2007-13 byla 4 643 mil. EUR. Pokles alokace OPŽP II na 57%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89F4-82BC-469E-AE59-21FB4F5DC3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8C5E-283D-4313-898A-C1D913127A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1D85-0558-4CCB-B00A-A9A4D9B855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rtál ISKP14+ je určen pro žadatele/příjemce pro zadávání žádostí o podporu projektu a správu projektů po celou dobu jejich životního cyklu. Žádosti o podporu projektu bude možné zadávat až po vyhlášení výzev operačních programů pro programové období 2014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nformace pro žadatele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stup (včetně registrace) do Aplikace MS2014+ bude umožněn po finalizaci jednotlivých operačních programů v rámci Dohody o partnerství mezi Českou republikou a Evropskou unií. Následně po vyhlášení výzev bude možné podávat žádosti o podpo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0D75-784F-4983-AAD4-9C836B5A65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CB88-239B-4121-A0FD-9B2BB76DC9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57ED-F1C8-4364-ACDF-556A91E3E2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C253-ACCE-45B1-BEBF-435E4A4116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1420-D8A1-40BF-9263-90B3A4ABEC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F1F-70B6-46CA-BF7A-9DD7D172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99C-8E93-4029-B811-B2E64814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777-3D9F-45DE-9688-DE539051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CCD-71BE-46F6-9ED8-28A4BA47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0818-1A3C-46AE-8A04-1138A3A2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5D95-8AA9-4458-A93C-82A6D05A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FDBE-2A49-426A-9E67-E75151C3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B8B2-D91C-46A9-9DB8-020485AD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DACA-E798-4BB9-A0FC-8588D675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D1D7-2014-4571-A794-13010863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3DFF-797E-4EE7-9C6E-85F873E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6D5-FDD0-4FB2-8973-CA56F351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D36F-FB1B-4B95-938B-B3D829F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63D1-F8F1-4094-9222-5A239FA4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D1C0-513A-4161-ABF8-EB3D4340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881-80D8-48F1-B9BA-5FA5DDEC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5B4D-5C56-4C71-AD32-1AEBC1BE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15B-CBBE-46A0-BFAC-2EE06A77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702-5344-4A36-B075-FF554D4A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16D-95BB-4FF0-8647-6A238B91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D5E-F120-4632-A879-8CC3A04E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1BE-8EE4-48A5-9A58-76973C34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503-31E2-468E-9444-EBFBDFEE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3A5-F57D-4CCD-ADA5-F5AB2091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97E2-E6FC-47B4-8C40-57B354F92845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Banner_FS_ERDF_RGB_3_horizont"/>
          <p:cNvPicPr/>
          <p:nvPr/>
        </p:nvPicPr>
        <p:blipFill>
          <a:blip r:embed="rId2"/>
          <a:stretch/>
        </p:blipFill>
        <p:spPr>
          <a:xfrm>
            <a:off x="395280" y="1490760"/>
            <a:ext cx="8353440" cy="930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1692360" y="573408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Ministerstvo životního prostředí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12" descr="Mozaika_prezentace.jpg"/>
          <p:cNvPicPr/>
          <p:nvPr/>
        </p:nvPicPr>
        <p:blipFill>
          <a:blip r:embed="rId3"/>
          <a:srcRect l="0" t="0" r="13223" b="0"/>
          <a:stretch/>
        </p:blipFill>
        <p:spPr>
          <a:xfrm>
            <a:off x="0" y="0"/>
            <a:ext cx="7929720" cy="1216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C33A-DA15-4833-AC51-8C47080E1935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pzp.cz/obecne-pokyny/dokumenty" TargetMode="External"/><Relationship Id="rId2" Type="http://schemas.openxmlformats.org/officeDocument/2006/relationships/hyperlink" Target="http://www.opzp.cz/vyzvy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4000" y="443664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5084640"/>
            <a:ext cx="3527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Martin Kub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Náměstek SFŽP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08000" y="2565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 Unicode MS"/>
              </a:rPr>
              <a:t>Operační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 Unicode MS"/>
              </a:rPr>
              <a:t>Životní prostředí 2014 -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3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341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1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Prevence vzniku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podporování projektů předcházení vzniku komunálních odpadů a realizace nebo modernizace technologií, jejichž výstupem bude menší množství produkovaných odpadů na jednotku výrobku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2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Zvýšit podíl materiálového a energetického využití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výstavba a modernizace zařízení pro sběr, třídění, úpravu, materiálové a energetické využití odpadů a nakládání s nebezpečnými odpady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3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Rekultivovat staré skládk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rekultivace starých skládek technicky nezabezpečených, které byly provozovány před účinností zákona č. 238/1991 Sb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F2E6-C7F6-47B0-ABFE-5D07FA7D6F4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3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3.4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Dokončit inventarizaci a odstranit ekologické zátěž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75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 Unicode MS"/>
              </a:rPr>
              <a:t>Realizace inventarizace kontaminovaných lokalit, realizace doprůzkumů a zpracování analýz rizik a sanace nejvážněji kontaminovaných lokalit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3.5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nvironmentální rizika a rozvíjet systémy jejich říz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75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 Unicode MS"/>
              </a:rPr>
              <a:t>realizace komplexní inventarizace všech kontaminovaných a potenciálně kontaminovaných lokalit, jejímž výstupem bude databáze těchto lokalit. Na základě informací získaných o kontaminaci a jejích dopadech budou lokality v databázi kategorizovány do priorit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AA3F-C9A5-4F6B-A916-7CFC5A13B8D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4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říznivý stav předmětu ochrany národně významných chráněných územ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implementace soustavy Natura 200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biodiverzitu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speciální péče o vzácné biotopy, jako jsou například rašeliniště, písčiny a stepní biotopy, cílené na zlepšení jejich kvality a druhového složení (včetně omezování invazních a expanzivních druhů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CEEA-00BB-4E37-9AC6-AF7CB0C9C07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4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přirozené funkce krajin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opatření na zprůchodnění migračních bariér pro vybrané druhy živočichů (obojživelníci, chráněné druhy plazů, vydra, bobr, sysel, netopýři), a to zejména na významných tahových cestách obojživelníků a na místech, kde dochází k úhynu kriticky a silně ohrožených druhů apo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kvalitu prostředí v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revitalizace funkčních ploch a prvků sídelní zeleně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BC19-C8DE-46B5-BA83-8448B348F55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5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5.1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Snížit energetickou náročnost veřejných budov a zvýšit využití obnovitelných zdrojů energi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celkové nebo dílčí energeticky úsporné renovace veřejn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5.2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Dosáhnout vysokého energetického standardu nových veřejn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ícenáklady na dosažení pasivního energetického standardu v případě výstavby nov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97B9-C0D2-4BF0-BBCE-DC702E8566B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Energetické úspory v památkově chráněných budovách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483920"/>
            <a:ext cx="81043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99"/>
              </a:spcBef>
              <a:spcAft>
                <a:spcPts val="24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rámci renovace budov památkově chráněných budov dle zákona č. 20/1987 Sb., o státní památkové péči, v platném znění, budou podporovány rovněž dílčí aktivity vedoucí ke snížení energetické náročnosti budovy bez ohledu na dosažení parametrů pro energetickou náročnost budovy dle vyhlášky č. 78/2013 Sb.,            o energetické náročnosti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99"/>
              </a:spcBef>
              <a:spcAft>
                <a:spcPts val="24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rámci připravovaných hodnotících kritérií budou památkově chráněné budovy hodnoceny zvlášť, tzn. že budou nastaveny mírnější bodové hranice než u „standardních“ budov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925A-0D6C-4D9E-8F75-5032A8CB3BE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272360" cy="7066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Energetické úspory v památkově chráněných budovách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mezení způsobilých investičních (realizačních) nákladů u vybraných opatření: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Maximální způsobilé výdaje v případě snižování spotřeby energie zlepšením tepelně technických vlastností obvodových konstrukcí budov.</a:t>
            </a: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plocha na systémové hranici budovy.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*možnost uplatnění míry způsobilosti se bude odvíjet od požadavku příslušného orgánu památkové péče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3ECE-4A15-4A95-A579-BC7B8F8CC66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2349360"/>
          <a:ext cx="7343640" cy="2735280"/>
        </p:xfrm>
        <a:graphic>
          <a:graphicData uri="http://schemas.openxmlformats.org/drawingml/2006/table">
            <a:tbl>
              <a:tblPr/>
              <a:tblGrid>
                <a:gridCol w="4900320"/>
                <a:gridCol w="2443320"/>
              </a:tblGrid>
              <a:tr h="37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ZATEPLOVANÉ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č bez DPH /m</a:t>
                      </a:r>
                      <a:r>
                        <a:rPr b="1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*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4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bvodové stě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 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oché a šikmé střešní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 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5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onstrukce k nevytápěným prostorů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půdám, suterénům, ostatním místnost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dlahy na zemin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ýplně otvor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 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Výplně otvorů – památkové chráněné budo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0 000</a:t>
                      </a:r>
                      <a:r>
                        <a:rPr b="1" lang="cs-CZ" sz="1400" spc="-1" strike="noStrike" baseline="30000">
                          <a:solidFill>
                            <a:srgbClr val="ff0000"/>
                          </a:solidFill>
                          <a:latin typeface="Arial Unicode MS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lokace pro jednotlivé prioritní osy pro období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6C52-BDAE-4A4F-B940-C4EBF521E8F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19280" y="1557360"/>
          <a:ext cx="5545080" cy="3887640"/>
        </p:xfrm>
        <a:graphic>
          <a:graphicData uri="http://schemas.openxmlformats.org/drawingml/2006/table">
            <a:tbl>
              <a:tblPr/>
              <a:tblGrid>
                <a:gridCol w="2494080"/>
                <a:gridCol w="1544400"/>
                <a:gridCol w="1506600"/>
              </a:tblGrid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Prioritní o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mil. 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Celkem (vč. 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 6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alší informace k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ýše podpor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Uznatelnost nákl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Systém administrace projekt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Přílohy k žádosti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Pravidlo N + 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še je stanoven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Unicode MS"/>
              </a:rPr>
              <a:t>v Pravidlech pro žadatele a příjemce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, které nahrazují stávající ID, ZPŽP, Příručku a Směrnici MŽ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1772-B95A-4309-A825-8762C92154B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Informace k MS20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MS2014+ v rámci všech operačních program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Uživatelé systému neinstalují do počítače žádný program – veškerá administrace probíhá v okně internetového prohlížeče (portál IS KP14+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Elektronické podání žádosti o podporu (prostřednictvím elektronického podpisu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eškerá komunikace mezi uživateli bude probíhat elektronicky (tzv. interní depeše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BA61-A4B5-4C3D-B457-4B38DA393B1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Konec financování OPŽP 2007-2013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31.12.2015 = konec způsobilosti výdajů OPŽP 2007-2013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tj. datum vystavení faktury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a datum uhrazení faktury dodavateli musí proběhnout do 31.12.2015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edpokládaný termín pro podání posledních Žádostí o platbu je konec listopadu 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čátkem roku 2016 bude výjimečně možné podat  ŽoP (pouze formou tzv. ex-post platby) na faktury vystavené v 11 – 12/2015 a uhrazené dodavateli do 31.12.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 konce roku 2015 je nezbytné vyrovnat veškeré závazky příjemců podpory vůči dodavatelům ve smyslu Závazných pokynů pro žadatele a příjemce podpory, kapitoly „Zásady financování – náležitosti Žádosti o platbu“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A829-6950-4F48-8973-6393AEEE470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0" t="10523" r="1341" b="3178"/>
          <a:stretch/>
        </p:blipFill>
        <p:spPr>
          <a:xfrm>
            <a:off x="357120" y="1341360"/>
            <a:ext cx="7489800" cy="524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FAEE-1D7C-42A7-9FB0-18828BF74A4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nice 5"/>
          <p:cNvSpPr/>
          <p:nvPr/>
        </p:nvSpPr>
        <p:spPr>
          <a:xfrm flipV="1">
            <a:off x="324000" y="1341000"/>
            <a:ext cx="7522920" cy="524052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nice 7"/>
          <p:cNvSpPr/>
          <p:nvPr/>
        </p:nvSpPr>
        <p:spPr>
          <a:xfrm>
            <a:off x="324000" y="1341360"/>
            <a:ext cx="7522920" cy="524052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rcRect l="0" t="10800" r="1281" b="4581"/>
          <a:stretch/>
        </p:blipFill>
        <p:spPr>
          <a:xfrm>
            <a:off x="106200" y="1268280"/>
            <a:ext cx="8498160" cy="541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656C-2BE4-477C-992D-1C05598472D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ázek 1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570880" cy="529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083-787C-4340-9579-BE9FB225E82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rázek 2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715240" cy="546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1672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7" name="Zástupný symbol pro obsah 4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712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1672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9" name="Zástupný symbol pro obsah 3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5773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Webové stránk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5D7E-F87E-4195-A04F-3054C597705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rázek 4" descr=""/>
          <p:cNvPicPr/>
          <p:nvPr/>
        </p:nvPicPr>
        <p:blipFill>
          <a:blip r:embed="rId1"/>
          <a:srcRect l="0" t="10615" r="1116" b="3211"/>
          <a:stretch/>
        </p:blipFill>
        <p:spPr>
          <a:xfrm>
            <a:off x="179280" y="126828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119700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Zateplení církevního objektu Sboru Bratrské jednoty baptistů v Chebu, </a:t>
            </a: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žadatel Sbor Bratrské jednoty baptistů v Chebu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74" name="Zástupný symbol pro obsah 4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76720" cy="316548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F221-A0F7-4B38-972F-08FA60A421DC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rázek 5" descr=""/>
          <p:cNvPicPr/>
          <p:nvPr/>
        </p:nvPicPr>
        <p:blipFill>
          <a:blip r:embed="rId2"/>
          <a:stretch/>
        </p:blipFill>
        <p:spPr>
          <a:xfrm>
            <a:off x="4500720" y="3375000"/>
            <a:ext cx="4545000" cy="340848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6"/>
          <p:cNvSpPr/>
          <p:nvPr/>
        </p:nvSpPr>
        <p:spPr>
          <a:xfrm>
            <a:off x="4500720" y="1413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eplení obvodových plášťů budovy a střešních konstru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měna a rekonstrukce otvorových výplní ob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ovéPole 7"/>
          <p:cNvSpPr/>
          <p:nvPr/>
        </p:nvSpPr>
        <p:spPr>
          <a:xfrm>
            <a:off x="0" y="4724280"/>
            <a:ext cx="45007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    1 820 397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   829 185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  746 266,50 Kč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634 326,52 Kč; SFŽP 111 939,98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740720" cy="79200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4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Beskydská Oáza v Písku – realizace úspor energie, </a:t>
            </a:r>
            <a:br>
              <a:rPr sz="2000"/>
            </a:b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žadatel Slezská církev evangelická augsburského vyznání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80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2119320"/>
            <a:ext cx="3875040" cy="461160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E9CC-2FA4-4D3D-A7E2-430B7F144F3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Obrázek 5" descr=""/>
          <p:cNvPicPr/>
          <p:nvPr/>
        </p:nvPicPr>
        <p:blipFill>
          <a:blip r:embed="rId2"/>
          <a:stretch/>
        </p:blipFill>
        <p:spPr>
          <a:xfrm>
            <a:off x="108000" y="1352520"/>
            <a:ext cx="3816360" cy="43880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6"/>
          <p:cNvSpPr/>
          <p:nvPr/>
        </p:nvSpPr>
        <p:spPr>
          <a:xfrm>
            <a:off x="4643280" y="13525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řízení nového kotle na biomasu (pelet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7"/>
          <p:cNvSpPr/>
          <p:nvPr/>
        </p:nvSpPr>
        <p:spPr>
          <a:xfrm>
            <a:off x="395280" y="5732640"/>
            <a:ext cx="46814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     603 55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 503 55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453 195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428 017,50 Kč; SFŽP 25 177,50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272360" cy="7066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4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Rekonstrukce zahrady,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žadatel </a:t>
            </a: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Farní sbor Českobratrské církve evangelické v Táboře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86" name="Zástupný symbol pro obsah 4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59280" cy="48956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054B-0166-413C-B127-3AA29B59E34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5"/>
          <p:cNvSpPr/>
          <p:nvPr/>
        </p:nvSpPr>
        <p:spPr>
          <a:xfrm>
            <a:off x="5076720" y="177336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letní obnova travnaté plo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azení nových stromků a keř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šetření stromů stávající vč. zajištění potřebného zavla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6"/>
          <p:cNvSpPr/>
          <p:nvPr/>
        </p:nvSpPr>
        <p:spPr>
          <a:xfrm>
            <a:off x="5076720" y="4076640"/>
            <a:ext cx="374652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31 898,6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71 732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34 037,70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283 916,74 Kč; SFŽP 50 120,96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741E-A444-43F3-B6F2-1CF56224C7F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Děkuji Vám za pozornos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692360" y="5300640"/>
            <a:ext cx="7056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átní fond životního prostředí České republiky, Kaplanova 1931/1, 148 00 Praha 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martin.kubica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JohnSans Text Pro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37372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7" descr="Mozaika_prezentac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16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Martin Kub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náměs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ávaznost OPŽP 2007-13 a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8EE9-8324-4317-8D91-217CC552449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341000"/>
            <a:ext cx="8215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ŽP 2014-2020 svým zaměřením navazuje na OPŽP 2007-201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užívá získaných zkušeností, které směřují k nastavení efektivního a kvalitního systému podpory ochrany životního prostřed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roti předchozímu OPŽP 2007-2013 je více koncentrován na identifikované prioritní problémy, zejména v PO 2 (snížení emisí z lokálního vytápění domácností) a PO 5 (snížení energetické náročnosti budov a zvýšení využití obnovitelných zdrojů energi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ípravy na programové období 2014-2020 probíhají v ČR již od roku 2010, v čele procesu přípravy je MM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A449-70EE-457F-9379-3617BCC57BF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ktuální stav příprav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hoda o partnerství – schválena Evropskou komisí 26. 8. 201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gramový dokument OPŽP – verze č. 9 schválena Evropskou komisí 30. 4. 201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avidla pro žadatele a příjemce – zveřejněna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1"/>
              </a:rPr>
              <a:t>http://www.opzp.cz/obecne-pokyny/dokumenty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zvy včetně HK – zveřejněny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http://www.opzp.cz/vyzvy/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hájení příjmu žádostí – 14. 8. 201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y pro období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1: Zlepšování kvality vody a snižování rizika povod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2: Zlepšování kvality ovzduší v lidských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3: Odpady a materiálové toky, ekologické zátěže a rizika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4 : Ochrana a péče o přírodu a kraji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5: Energetické úspor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F66-2F9B-4848-9A09-BA373CA9426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1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množství vypouštěného znečištění do povrchových i podzemních vod z komunálních zdrojů a vnos znečišťujících látek do povrchových a podzemních vod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ýstavba kanalizace za předpokladu existence vyhovující čistírny odpadních vod v aglomeraci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dodávky pitné vody v odpovídající jakosti a množstv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ýstavba a modernizace úpraven vody a zvyšování kvality zdrojů pitné vody včetně výstavby a modernizace systémů (technická opatření) pro ochranu zdrojů pitné vody v jejich bezprostřední blízkosti, sloužící veřejné potřebě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58E5-31C5-4F73-AF24-E448F087B15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1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ovodňovou ochranu intravilá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hospodaření se srážkovými vodami v intravilánu a jejich další využití namísto jejich urychleného odvádění kanalizací do tok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dpořit preventivní protipovodňová opatř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budování a rozšíření varovných, hlásných, předpovědních a výstražných systémů na lokální úrovni, digitální povodňové plán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85E7-6B32-4E58-BB22-F3A038486E9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2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6600" indent="-2466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z lokálního vytápění domácností podílející se na expozici obyvatelstva nadlimitním koncentracím znečišťujících látek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měna kotle na pevná paliva za nový kotel na pevná nebo plynná paliva s minimálními emisemi znečišťujících láte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6600" indent="-2466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stacionárních zdrojů podílející se na expozici obyvatelstva nadlimitním koncentracím znečišťujících látek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ompletní nebo dílčí náhrada či rekonstrukce stávajících spalovacích a nespalovacích stacionárních zdrojů znečišťován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E07-E785-43A1-BC3F-4335014DCDB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2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systém sledování, hodnocení a předpovídání vývoje kvality ovzduší a souvisejících meteorologických aspektů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stavba a obnova systémů sledování kvality ovzduší a souvisejících meteorologických aspektů v celorepublikovém či regionálním měřítku (zejména monitorovací sítě, laboratoře, zabezpečení sběru vzorků a přenosu dat, technika pro primární zpracování dat, jejich archivaci a prezentaci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298D-E604-464E-AF7C-CAB61184868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18:41Z</dcterms:created>
  <dc:creator>Milena Pecnová</dc:creator>
  <dc:description/>
  <dc:language>en-US</dc:language>
  <cp:lastModifiedBy>Capkova Dagmar</cp:lastModifiedBy>
  <dcterms:modified xsi:type="dcterms:W3CDTF">2015-06-24T13:41:02Z</dcterms:modified>
  <cp:revision>90</cp:revision>
  <dc:subject/>
  <dc:title>Snímek 1</dc:title>
</cp:coreProperties>
</file>