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071-088B-4A21-AFD7-DC54879B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472-E258-45C6-BA5D-DCD1DF96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1E9-63A9-48EA-80AE-B122A774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6ED-7496-4D05-819B-52E2C0A7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D3D-9AA9-42FB-8EFA-A3B0FBD1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1D6-3247-471F-A296-637655EB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1C41-EBA0-4A27-BECD-9301155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3F0-88DB-44AD-A829-DF2FAD6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F0F8-3D43-4D61-BE30-2B20B460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4C7C-CA6D-4BAB-9F76-F9C63ACB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18F-7763-47A4-A029-8271D94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74F-6D3B-48F5-B613-BEC95624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3E9-A7EF-4E29-998D-52E8C69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E58-5CC1-4BB6-AEF1-90851E5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A0A-CD22-4A00-B4D6-A6A204E5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A31-2199-4701-A3F0-C0CD4D75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870-6C8D-4462-BB1E-2A4AE952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CF1CE-90F1-4B5A-8A85-8FD6ED5D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6F5BA-4BFD-478A-BF08-9C8F6F1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461EB-0D89-429A-8B64-25AAD1E5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AA1D5-C33C-410E-9CFB-F6B2359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15FC3-2B99-48F5-8A8F-0908485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795-7234-409E-85A7-98A1032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22E59-D18E-4DC0-95ED-4E50AAD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7C3EE-6171-47DF-B08B-B749A38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9D267-12E6-42BB-8442-6CE4272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155D7-D40B-48B6-BE8C-6CADFE0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96346-A49E-4980-885C-B1046492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C61D6-80B7-4153-8CF9-C446934E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D99F3-AC29-457E-B33A-B29E405D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FB3C-6959-4785-B2C5-42999C3E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4FE7-D941-4A9D-BDAC-5164533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B222-9521-4811-B13F-A5B09486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CFE-A6D8-4134-9B24-0A88870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7848-B1A0-4981-8B6C-110F7845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A46C-9228-4B82-912D-38F4BBC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C1BD-0F28-45A9-A00A-E32E385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B1F4-CEA4-4F72-9ACC-126CAF9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1C35-DE0C-413D-B0EB-5BF310E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314C-FD14-4951-ACDE-58FBE1AA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24F4-F60D-43C4-8B23-0C6C7DAE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5980-2886-4ED6-B143-9FC0866A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A68A-840A-4054-BB32-C3EA6C0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F9B50-1CD3-4A8F-AA61-A982AA23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7E5-426D-4CF7-82FB-E44D717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21EF8-4F7E-4DB6-9C1C-E83B13E8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C13E6-38F1-45BF-B97A-DDCD9F5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94F95-7441-43C7-9C1E-EB99F2C5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1441B-781C-405E-9D87-12DEE9EB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575C-6E10-4259-85F2-D8EC88A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12DAB-8680-4349-8EAE-8C20333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45C7E-41C6-4A76-95F1-ADF1DCD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10524-AB02-44A0-AE13-AA6438C3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41440-5D2A-453B-90CB-69382DE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BBE07-49E6-4AFE-9499-6D41D803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5CD-1AD1-4FD9-8537-036B780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B3EB3-C0B2-47F9-9AF0-77A9FE96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C2E9C-08A9-4D33-ACD4-C8298F86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803C9-B390-4C62-B3F2-98FCE26B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B6FC2-7F4D-45CE-997C-3503405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E2F1F-75A9-482A-A849-CC8714EC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998CD-02FA-4411-A167-DA3BBC2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3ED75-D804-41FC-8312-7B91D9FF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E2465-FAD3-48B5-91BC-0E70E6E1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BFBF3-77AA-40A7-A584-FDFDA8D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EE656-0CD8-4939-B51A-13ED58F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64-169A-469C-A7CC-B98891E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34A79-3BB6-4CB0-9C84-1BEE642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6BC4F-D437-4B41-A2D9-89E5D46C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C0695-6A03-409C-A86B-5983D23B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E585E-2B1E-498C-99BA-7241C390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4C199-C62A-44B6-9DBE-2B478DD3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32B50-E58F-4CF2-A045-90DD000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5BBBD-E797-438D-A7F8-CCE9F43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5BD3D-B85F-413E-849E-711B42D5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3B5DC-2374-40E5-9450-2CAE36E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3D5F6-E434-4B44-AA3B-D11CD1F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566-73F1-425A-948C-5FCC075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D634F-7E92-40B9-8F16-B1A35FD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F1B2D-AF9F-4B94-A1FC-275E34C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0F4AA-7CB5-47A0-ADDD-25EC5EEC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8773C-2B43-413D-9273-2453FA0F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10878-EBA2-47C5-A635-2C54C87E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569-90E1-48D2-8B90-5D4C9B6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3CA0-AAAA-48E9-9603-306D78A8765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BE4-1EB4-453D-8BC0-A4AEB8143F9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367C-46E3-4C66-A500-D27B98B4865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874-2CBB-404E-AF63-E8C932033A4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50FF-A09B-4B5D-9474-24B481BCE9D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4E5-4780-489A-914C-9222EE9EA7A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655-DEC3-4ADD-9AB4-3C9B7C6E537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benefit.kr-kralovehradecky.c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928800"/>
            <a:ext cx="65725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GRANTY A DOTACE KRÁLOVÉHRADECKÉHO KRAJE VYPSANÉ V ROCE 2009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2786040"/>
            <a:ext cx="542916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Cestovní ru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ultura a památková péč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Obce a mikroregion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Volnočasové ak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Životní prostředí a zemědě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ezinárodní spoluprá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PREV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VZDĚLÁV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760" y="3714840"/>
          <a:ext cx="3214440" cy="57924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14240" y="5072040"/>
          <a:ext cx="7358040" cy="57960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dosti musí být nově vyplňovány na oficiálním formuláři v systému Benefit (</a:t>
            </a: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s://benefit.kr-kralovehradecky.cz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 do určeného data a zároveň musí být písemná finalizovaná podoba žádosti spolu s přílohami zaslána v daném termínu na příslušné od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00040" y="1954080"/>
          <a:ext cx="7467480" cy="903600"/>
        </p:xfrm>
        <a:graphic>
          <a:graphicData uri="http://schemas.openxmlformats.org/drawingml/2006/table">
            <a:tbl>
              <a:tblPr/>
              <a:tblGrid>
                <a:gridCol w="6286680"/>
                <a:gridCol w="11808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5" name="Nadpis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CESTOVNÍ  RUC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00040" y="4346640"/>
          <a:ext cx="7358040" cy="868320"/>
        </p:xfrm>
        <a:graphic>
          <a:graphicData uri="http://schemas.openxmlformats.org/drawingml/2006/table">
            <a:tbl>
              <a:tblPr/>
              <a:tblGrid>
                <a:gridCol w="6215040"/>
                <a:gridCol w="11430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7" name="Zástupný symbol pro obsah 2"/>
          <p:cNvSpPr/>
          <p:nvPr/>
        </p:nvSpPr>
        <p:spPr>
          <a:xfrm>
            <a:off x="428760" y="1500120"/>
            <a:ext cx="75438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ÚPRAVA LYŽAŘSKÝCH BĚŽECKÝCH TRAS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1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ÁDÁNÍ PREZENTAČNĚ-PROPAGAČNÍCH AKCÍ V OBLASTI CESTOVNÍHO RUCHU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3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příjmu žádostí do těchto grantových programů byla 30.4. 200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1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DPORA A ROZVOJ PROFESIONÁLNÍCH I NEPROFESIONÁLNÍCH KULTURNÍCH AKTIVIT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1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BNOVA PAMÁTKOVÉHO FONDU NA ÚZEMÍ KRÁLOVÉHRADECKÉHO KRAJE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42960" y="278604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42960" y="4786200"/>
          <a:ext cx="7286760" cy="1528920"/>
        </p:xfrm>
        <a:graphic>
          <a:graphicData uri="http://schemas.openxmlformats.org/drawingml/2006/table">
            <a:tbl>
              <a:tblPr/>
              <a:tblGrid>
                <a:gridCol w="2714760"/>
                <a:gridCol w="3000240"/>
                <a:gridCol w="1571760"/>
              </a:tblGrid>
              <a:tr h="361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dotace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5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kt v PR, PZ, 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2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UBLIKAČNÍ ČINNOSTI A LITERATUR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3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NOVA HISTORICKÝCH VARHAN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14240" y="207180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14240" y="4643280"/>
          <a:ext cx="7286760" cy="868680"/>
        </p:xfrm>
        <a:graphic>
          <a:graphicData uri="http://schemas.openxmlformats.org/drawingml/2006/table">
            <a:tbl>
              <a:tblPr/>
              <a:tblGrid>
                <a:gridCol w="6000840"/>
                <a:gridCol w="12859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3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NEMOVITÝCH OBJEKTŮ HISTORICKÉ HODNOTY A UMĚLECKO-ŘEMESLNÝCH DĚL, KTERÉ NEJSOU KULTURNÍ PAMÁT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5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71680" y="3000240"/>
          <a:ext cx="7286400" cy="9493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1571400"/>
              </a:tblGrid>
              <a:tr h="36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podpory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vě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25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1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sběru žádostí do vyhlášených programů byla 16. 4. 2009, s výjimkou grantu RRD062009 Podpora provozu cyklobusů v turistických regionech, u kterého byla uzávěrka 25. 3. 2009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OFESIONALIZACE SVAZKŮ OBCÍ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ÍZENÍ, AKTUALIZACE A DIGITALIZACE ÚZEMNÍCH PLÁNŮ OBCÍ DO 2000 OBYVATEL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3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14240" y="2857680"/>
          <a:ext cx="7358040" cy="731520"/>
        </p:xfrm>
        <a:graphic>
          <a:graphicData uri="http://schemas.openxmlformats.org/drawingml/2006/table">
            <a:tbl>
              <a:tblPr/>
              <a:tblGrid>
                <a:gridCol w="3286440"/>
                <a:gridCol w="4071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ximální výše podpory (obec může být zařazena pro účely dotace pouze v jednom svazku obcí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x počet obyvatel + 80 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= hustota obyvatelstva na území kraje/ hustota obyvatelstva na území svaz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42960" y="4786200"/>
          <a:ext cx="7429320" cy="949320"/>
        </p:xfrm>
        <a:graphic>
          <a:graphicData uri="http://schemas.openxmlformats.org/drawingml/2006/table">
            <a:tbl>
              <a:tblPr/>
              <a:tblGrid>
                <a:gridCol w="5929200"/>
                <a:gridCol w="1500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ení stanove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%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2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YBAVENÍ SVAZKŮ OBCÍ ZÁKLADNÍ TECHNI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ROVOZU CYKLOBUSŮ V TURISTICKÝCH REGIONECH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6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14240" y="1616040"/>
          <a:ext cx="7358040" cy="88416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- mikroregiony od 2.500 obyva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14240" y="3500280"/>
          <a:ext cx="7358040" cy="10670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3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2960" y="2143080"/>
          <a:ext cx="7358040" cy="5936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42960" y="4214880"/>
          <a:ext cx="7358040" cy="5792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DOTACE POSKYTOVATELŮM SOCIÁLNÍCH SLUŽEB V KRAJ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dle § 101 zákona č. 108/2006 Sb , o sociálních službách, ve znění pozdějších předpis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Finanční prostředky na 1. splátku dotace z celkového objemu dotací na rok 2009 byly poslány na konci března 2009 z Krajského úřadu Královéhradeckého kraj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Tuto splátku MPSV ČR vypočetlo následovně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643120" y="3286080"/>
          <a:ext cx="3214800" cy="579600"/>
        </p:xfrm>
        <a:graphic>
          <a:graphicData uri="http://schemas.openxmlformats.org/drawingml/2006/table">
            <a:tbl>
              <a:tblPr/>
              <a:tblGrid>
                <a:gridCol w="160668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tace 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28.034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spl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1.268.35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4240" y="4643280"/>
          <a:ext cx="7358040" cy="74628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movy pro seniory, domovy pro osoby se zdravotním postižením, domovy se zvláštním režimem a týdenní stacionář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tatní služ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5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3:20Z</dcterms:created>
  <dc:creator>Stanislav Javůrek</dc:creator>
  <dc:description/>
  <dc:language>en-US</dc:language>
  <cp:lastModifiedBy>Stanislav Javůrek</cp:lastModifiedBy>
  <dcterms:modified xsi:type="dcterms:W3CDTF">2009-05-10T18:38:42Z</dcterms:modified>
  <cp:revision>17</cp:revision>
  <dc:subject/>
  <dc:title>Snímek 1</dc:title>
</cp:coreProperties>
</file>