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2148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50ED8-5A23-42BE-9D0C-3AD9011B4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FA8DF-2C07-4460-ADF9-1923B612E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50E56-FA53-48A3-97F2-AF7068E08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2FD19-B75D-4792-A941-1EBF841B3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9FA4E-5D2F-43FA-ACDC-6005D690E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2A47C-8A8E-4795-8A54-776153A97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4EAC3-24BB-44EF-B386-E10B35991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1B5A5-763C-456D-8A34-A288AF971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040DF-FE0D-46C7-9596-CC40906F3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EF02F-317A-4FF2-B0A3-35B8FF283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8ED52-AF8C-45EC-AE20-BFC6D5BBF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C75E4-31DE-4FBC-8D9A-60E739D34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CC132-01BA-4519-B3A7-F23CAA87FA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rcRect l="0" t="0" r="12951" b="0"/>
          <a:stretch/>
        </p:blipFill>
        <p:spPr>
          <a:xfrm>
            <a:off x="0" y="0"/>
            <a:ext cx="9144000" cy="981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50920" y="5661000"/>
            <a:ext cx="39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4407e"/>
                </a:solidFill>
                <a:latin typeface="Arial"/>
                <a:ea typeface="ＭＳ Ｐゴシック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557360"/>
            <a:ext cx="9144000" cy="37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onzultace pro starosty a místostaros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Arial"/>
              </a:rPr>
              <a:t>Legislativa v bytové oblast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3A295-9D44-45E4-8B61-DA9E3CAF9BC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br>
              <a:rPr sz="4200"/>
            </a:b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8000" y="1699920"/>
            <a:ext cx="8675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11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cs-CZ" sz="1700" spc="-1" strike="noStrike">
                <a:solidFill>
                  <a:srgbClr val="000000"/>
                </a:solidFill>
                <a:latin typeface="Arial"/>
              </a:rPr>
              <a:t>návrh nového zákona o vlastnictví bytů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cs-CZ" sz="1700" spc="-1" strike="noStrike">
                <a:solidFill>
                  <a:srgbClr val="000000"/>
                </a:solidFill>
                <a:latin typeface="Arial"/>
              </a:rPr>
              <a:t>občanský zákoník - návrh novely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1" lang="cs-CZ" sz="1700" spc="-1" strike="noStrike">
                <a:solidFill>
                  <a:srgbClr val="000000"/>
                </a:solidFill>
                <a:latin typeface="Arial"/>
              </a:rPr>
              <a:t>- návrh nového kodexu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cs-CZ" sz="1700" spc="-1" strike="noStrike">
                <a:solidFill>
                  <a:srgbClr val="000000"/>
                </a:solidFill>
                <a:latin typeface="Arial"/>
              </a:rPr>
              <a:t>zajištění zdrojů - návrh novely zák. o rozpočtovém určení daní - připravuje s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1" lang="cs-CZ" sz="1700" spc="-1" strike="noStrike">
                <a:solidFill>
                  <a:srgbClr val="000000"/>
                </a:solidFill>
                <a:latin typeface="Arial"/>
              </a:rPr>
              <a:t>- návrh novely zákona o Fondu - vratky dotací -   připravuje se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cs-CZ" sz="1700" spc="-1" strike="noStrike">
                <a:solidFill>
                  <a:srgbClr val="000000"/>
                </a:solidFill>
                <a:latin typeface="Arial"/>
              </a:rPr>
              <a:t>návrhy nařízení vlády k jednotlivým novým podpůrným nástrojům - budou 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cs-CZ" sz="1700" spc="-1" strike="noStrike">
                <a:solidFill>
                  <a:srgbClr val="000000"/>
                </a:solidFill>
                <a:latin typeface="Arial"/>
              </a:rPr>
              <a:t>připravovány podle projektu nových opatření k podpoře investic do bydlení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cs-CZ" sz="1700" spc="-1" strike="noStrike">
                <a:solidFill>
                  <a:srgbClr val="000000"/>
                </a:solidFill>
                <a:latin typeface="Arial"/>
              </a:rPr>
              <a:t>novela zák. č. 107/2006 Sb.- prodloužení cílového stavu deregulace do r. 2012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000000"/>
                </a:solidFill>
                <a:latin typeface="Arial"/>
              </a:rPr>
              <a:t>Poznámky: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cs-CZ" sz="1700" spc="-1" strike="noStrike">
                <a:solidFill>
                  <a:srgbClr val="000000"/>
                </a:solidFill>
                <a:latin typeface="Arial"/>
              </a:rPr>
              <a:t>Pro jednání vlády: 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příprava „Návrh Aktualizace nástrojů bytové politiky“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24000" y="1557360"/>
            <a:ext cx="8424720" cy="11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rcRect l="0" t="0" r="12951" b="0"/>
          <a:stretch/>
        </p:blipFill>
        <p:spPr>
          <a:xfrm>
            <a:off x="0" y="0"/>
            <a:ext cx="9144000" cy="981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116000" y="981000"/>
            <a:ext cx="698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  <a:ea typeface="Arial"/>
              </a:rPr>
              <a:t>Legislativní opatř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F853D-CDDA-4506-87F4-DB696177A14C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br>
              <a:rPr sz="4200"/>
            </a:b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2565360"/>
            <a:ext cx="842472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vrácen k dopracování dle připomínek členů </a:t>
            </a:r>
            <a:br>
              <a:rPr sz="2400"/>
            </a:b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Legislativní rady vlády, návrh  je dopracovává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cílem je upřesnění vlastnictví, způsoby hlasování</a:t>
            </a:r>
            <a:br>
              <a:rPr sz="2400"/>
            </a:b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orgánů výboru společenství  vlastníků a umožnění </a:t>
            </a:r>
            <a:br>
              <a:rPr sz="2400"/>
            </a:b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hlasování „per rollam“ – zkvalitnění funkce SVJ, </a:t>
            </a:r>
            <a:br>
              <a:rPr sz="2400"/>
            </a:b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snížení negativních vlivů pasivního chování členů SV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1557360"/>
            <a:ext cx="8424720" cy="11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rcRect l="0" t="0" r="12951" b="0"/>
          <a:stretch/>
        </p:blipFill>
        <p:spPr>
          <a:xfrm>
            <a:off x="0" y="0"/>
            <a:ext cx="9144000" cy="1413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468360" y="1628640"/>
            <a:ext cx="80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  <a:ea typeface="Arial"/>
              </a:rPr>
              <a:t>Návrh nového zákona o vlastnictví byt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60E14-DC0B-440C-A6FB-3C6DFC7EE76B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br>
              <a:rPr sz="4200"/>
            </a:b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8000" y="2276280"/>
            <a:ext cx="806436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návrh novely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v oblasti nájmu bytů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ředloženo do Legislativní rady vlád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ákladem je posílení postavení vlastníka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osílení smluvní volnosti účastníků nájemního vztahu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končení regulace nájemného a nástup režimu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 stanovení nájemného dohodou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říslušnost soudu ve sporech o výši nájemného,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 možnost stanovení výše nájemného soudem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mezení přechodu nájmu po smrti nájemc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4000" y="1557360"/>
            <a:ext cx="8424720" cy="11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rcRect l="0" t="0" r="12951" b="0"/>
          <a:stretch/>
        </p:blipFill>
        <p:spPr>
          <a:xfrm>
            <a:off x="0" y="0"/>
            <a:ext cx="9144000" cy="1413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116000" y="1484280"/>
            <a:ext cx="698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  <a:ea typeface="Arial"/>
              </a:rPr>
              <a:t>Občanský zákoní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C99D3-2462-4A07-9E05-74B88491A28E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2349000"/>
            <a:ext cx="8229600" cy="37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892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00"/>
                </a:solidFill>
                <a:latin typeface="Arial"/>
              </a:rPr>
              <a:t>Děkuji za pozorno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5892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5892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rcRect l="0" t="0" r="12951" b="0"/>
          <a:stretch/>
        </p:blipFill>
        <p:spPr>
          <a:xfrm>
            <a:off x="0" y="0"/>
            <a:ext cx="9144000" cy="836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0F913-EEB9-4913-BA97-5B9136FC4CF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4T12:07:40Z</dcterms:created>
  <dc:creator>Martina Přibylová</dc:creator>
  <dc:description/>
  <dc:language>en-US</dc:language>
  <cp:lastModifiedBy>Kamil Jan Svoboda</cp:lastModifiedBy>
  <cp:lastPrinted>2009-01-28T11:09:09Z</cp:lastPrinted>
  <dcterms:modified xsi:type="dcterms:W3CDTF">2009-05-11T21:14:13Z</dcterms:modified>
  <cp:revision>83</cp:revision>
  <dc:subject/>
  <dc:title>Snímek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199961724</vt:r8>
  </property>
  <property fmtid="{D5CDD505-2E9C-101B-9397-08002B2CF9AE}" pid="3" name="_AuthorEmail">
    <vt:lpwstr>Marcela.Pavlova@mmr.cz</vt:lpwstr>
  </property>
  <property fmtid="{D5CDD505-2E9C-101B-9397-08002B2CF9AE}" pid="4" name="_AuthorEmailDisplayName">
    <vt:lpwstr>Pavlová Marcela</vt:lpwstr>
  </property>
  <property fmtid="{D5CDD505-2E9C-101B-9397-08002B2CF9AE}" pid="5" name="_EmailSubject">
    <vt:lpwstr>Žádost o přípravu prezentace</vt:lpwstr>
  </property>
  <property fmtid="{D5CDD505-2E9C-101B-9397-08002B2CF9AE}" pid="6" name="_PreviousAdHocReviewCycleID">
    <vt:r8>-665579781</vt:r8>
  </property>
  <property fmtid="{D5CDD505-2E9C-101B-9397-08002B2CF9AE}" pid="7" name="_ReviewingToolsShownOnce">
    <vt:lpwstr/>
  </property>
</Properties>
</file>