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56B-DED3-49E2-B59B-454FB291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B48-988C-4C27-B4EC-8820A08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F70-AE58-47EE-895B-0CE2FCBE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AE7-DF58-4E05-AAB9-7DD57FE2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EAC-277D-4B1B-8FFC-9040348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C47-546D-477F-8AEE-2F25757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613-E656-45D6-9A9D-7986B147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8E2-A556-4409-9540-7F04BF3A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A79-0DB9-4D0D-93DD-9EF791E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85C-CCFF-4D66-A98F-59E7DAF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359-6379-4845-B27A-DB40931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E65-D51C-43E5-863C-CD6CB9AE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8240-B465-45AA-9348-0B70845D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mr.cz/uploads/MMR_Temata/REGIONALNI_POLITIKA/Programy_Dotace_RP/081201_zasady_POV.pdf" TargetMode="External"/><Relationship Id="rId2" Type="http://schemas.openxmlformats.org/officeDocument/2006/relationships/hyperlink" Target="http://www.mmr.cz/uploads/MMR_Temata/REGIONALNI_POLITIKA/Programy_Dotace_RP/081201_zasady_VA.pdf" TargetMode="External"/><Relationship Id="rId3" Type="http://schemas.openxmlformats.org/officeDocument/2006/relationships/hyperlink" Target="http://www.mmr.cz/uploads/MMR_Temata/REGIONALNI_POLITIKA/Programy_Dotace_RP/080318_Zasady_217117.doc" TargetMode="External"/><Relationship Id="rId4" Type="http://schemas.openxmlformats.org/officeDocument/2006/relationships/hyperlink" Target="http://www.mmr.cz/uploads/MMR_Temata/REGIONALNI_POLITIKA/Programy_Dotace_RP/081201_zasady_BO.pdf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9144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programy MMR ČR v oblasti bytové a regionální politi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0B4-623F-4755-A0C0-5D7531013F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2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2276640"/>
          <a:ext cx="8785440" cy="294156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SFR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konstrukcí panelových bytových domů (program „PANEL“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věry mladým domácnostem na pořízení by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D70-BC3B-49BF-A95D-CFCD9E05EB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ílem je podpora celkové rekonstrukce a zateplení, prodloužení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životnosti, modernizace, zvýšení standardu bydlení, nikoliv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uze jednotlivé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mínky  - nař. vlády č. 299/2001 Sb. – všem vlastníkům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anelových bytů a do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úroková dotace ve výši 2 procentních bodů po dobu splácení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úvěru, max. 15 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ankovní záruka za splácení úvěrů (ČMZRB, a.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formační a poradenská střediska poskytnou metodickou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m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981000"/>
            <a:ext cx="8713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konstrukcí panelových bytových domů (program „PANE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CDF-B652-4D16-B293-FF33132614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úvěr do výše 300 000 Kč splatný do 20 let, fixní úrok 2 % p.a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po celou dobu splác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samotná osoba pečující alespoň o jedno nezletilé dítě, která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 roce podání žádosti nedovrší 36 let věku nebo manželé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z nichž alespoň jeden splňuje toto věkové krite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koupi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výstavbu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získání družstevního bytu převodem členských práv neb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úhradou členského vkla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rodí-li se dítě v průběhu splácení úvěru, Fond sníží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nesplacenou část jistiny o 30 000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1197000"/>
            <a:ext cx="871380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Úvěry mladým domácnostem na pořízení 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511-11D2-434F-BC2C-AB55B7D40D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ová opatřen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s platností od roku 2010, budou-li  na ně finanční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prostředky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nájemních bytů -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ozní podpora pronajímatelů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a rekonstrukcí technické infrastruktury –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zšíření programu PANEL na nepanelové d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Nové nástroje podpory investic do by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26B-7F98-4D66-946C-D511CDD86D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1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 podpora orientace podnikatelských záměrů na výstavbu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nájem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v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odpora výstavby nájemních bytů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5B6-C228-4754-B828-963370B4E1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podpora výstavby malých a dostupných bytů pro tu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kupinu obyvatel, která si není schopna z důvodů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ízkého příjmu pořídit bydl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ová skupina: domácnosti s vymezeným příjm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investiční dotace na výstavbu nájemníc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1484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b)   Podpora výstavby sociálních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FC0-3BD7-448F-A749-03C03E66C2E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: využít již existujících bytů pro bydlení sociálně potřebných os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ová skupina: domácnosti, které nejsou schopné hradit zvýšené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ájemné a nemohou z objektivních důvodů (věk, zdravotní stav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apod.)  přizpůsobit bydlení svým příjmovým možno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 podpory: provozní podpora poskytovaná pronajímateli,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ompenzující rozdíl mezi dosavadní úrovní nájemného 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rovní v místě a čase obvyklo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říjemci podpory: pronajímatelé na základě smlouvy mezi obcí 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najímatel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ropský kontext: není třeba notifikov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119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vozní podpora pronajímatelů sociálních byt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47B-93D6-47A7-9D50-7A6D786BB9E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7991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íl: rozšíření nabídky zainvestovaných pozemků pr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áslednou výstavbu bytových a rodinných do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148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)  Podpora výstavby a rekonstrukcí technické infrastruktury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DD4-621D-4B14-97FD-F8884DCA97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zajištění rovného nediskriminačního přístupu vlastníků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domů pro bydlení ke státní podpoře, stimulac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komplexní rekonstrukce bytových domů, podpora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energetických úsp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úroková dotace k bankovnímu úvě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vlastníci bytových domů postavený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jakoukoli stavební technologi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)  Rozšíření programu PANEL na nepanelové d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58F-20AC-4B3A-87ED-40B438EA1A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2. Programy v oblasti regionální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5A6-EFB4-4396-9DC7-8A5D1256CA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bsah prezenta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bytové polit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regionální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tace na územní pl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F77-8271-42E0-A4B0-D85E133906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árodní programy v roc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gram obnovy venk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mr.cz/uploads/MMR_Temata/REGIONALNI_POLITIKA/Programy_Dotace_RP/081201_zasady_POV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dpora úprav bývalých vojenských areálů k obecnímu využit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r.cz/uploads/MMR_Temata/REGIONALNI_POLITIKA/Programy_Dotace_RP/081201_zasady_VA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bnova obecního a krajského majetku postiženého živelní nebo jinou pohro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mr.cz/uploads/MMR_Temata/REGIONALNI_POLITIKA/Programy_Dotace_RP/080318_Zasady_217117.doc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zbariérové obce – nový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mr.cz/uploads/MMR_Temata/REGIONALNI_POLITIKA/Programy_Dotace_RP/081201_zasady_BO.pd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5"/>
          <a:srcRect l="0" t="0" r="12951" b="0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B49-6BFD-4468-BBD3-BE37F786DB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844640"/>
          <a:ext cx="8785440" cy="439272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úprav bývalých vojenských areálů k obecnímu využit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venk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obecního a krajského majetku postiženého živelní nebo jinou pohromo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bariérové ob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vý program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FA2-5AD2-40AA-B853-8D67701E08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Podpora vítězů soutěže Vesnice 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 do výše 80% celk. 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údržba venkovské zástavby a občanské vybave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zřizování veřejné zele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onstrukce a výstavba místních komunikací, stezek a veřejného osvětl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a realizace propagačních materiálů obce v souvislosti s umístěním v soutěži Vesnice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D72-19C2-4EAA-A954-FD7EA522F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444-A04A-43D1-B582-7B9239859A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 dětí a mládeže do komunitního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života v obc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tace do 70% celk. přímých nákladů s limitem dotace min. 50 tis. Kč, max. 300 tis.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ou podporovány akce s výstupy sloužícími převážně dětem a mládeži, na jejichž výběru a přípravě (resp. realizaci) se děti a mládež prokazatelně podílely (resp. budou podílet), a které jsou zaměřené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údržbu venkovské zástavby a občanské vybavenos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u veřejných prostranstv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zřizování veřejné zelen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konstrukci nebo vybudování zařízení pro volnočasové ak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FDF-AC61-4E55-9070-1EBB36F0F4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přípravy akce, zapojení dětí a mládeže včetně obrazové dokumentace, harmonogram akce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31D-58EB-4E07-892D-E0DBCF374B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Název: Podpora spolupráce obcí na obnově a rozvoji venkov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ace do 70% celkových přímých nákladů s limitem dotace max. 200 tis. K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nadregionálního významu zaměřené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úspěšných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měna zkušeností při přípravě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spolupráce a odborného vzdělávání zástupců obcí zaměřeného na obnovu a rozvoj ven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FBF-DCF1-4862-8B28-247CEF63EE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akce, její cíle 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D06-8AE4-4690-85FE-9C0B0B7FF9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obnovy venkova: Dotační titul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obnovy drobných sakrálních staveb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í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svazek ob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 s limitem dotace min. 50 tis. Kč, max. 4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dou podporovány akce zaměřené na obnovu sakrálních staveb nalézajících se v katastrálním území obce, které nejsou prohlášeny kulturním památkou a jsou v majetku obce. Jedná se zejména o obnovu staveb jak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ple, kaplička, socha, boží muka, kří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prava prostranství v okolí drobných sakrálních stave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754-DDB6-4D3F-98BD-A1492F5F8E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otační titul č. 4 - pokrač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s akce, harmonogram akce (termín realizace akce, termín závěrečného vyhodnocení akce) apo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v části čtvrté: Stavební řád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781-80ED-4E11-BBDE-8F6B248581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1. Programy v oblasti bytové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4AD-8EF4-4BAA-9397-2F6060E57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rómské komunity do život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e a společnosti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které mají min. 4 % romského et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,dot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limitem min. 50 tis. Kč, max. 5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občanská vybavenost, zařízení pro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volnočasové aktivity,související infrastruktur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6BF-EAE8-4151-B03E-E28D36F43F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 - pokra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 práce obce na zapojení romské komunity (aktivity obce, podpora romských spolků, sdružení)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e o využívání jiných dotačních programů pro práci s romskou komunit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 na využití vybudovaného nebo rekonstruovaného objektu dokladující životnost ak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9D6-0B10-4D08-A16D-C151C21FCA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Infrastruktura a rekonstrukce</a:t>
            </a: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, svazek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převzatých kasárenských areálů, popřípadě dalších objektů a ploch pro nové civilní využit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i, příp. vybudování nové infrastruktury v kasárnách nebo vojenských areálech související s novým využitím bývalých vojenských objektů a ploch nebo související infrastruktury umožňující napojení na nadřazené sítě, obnovu místních komunikací, parkovacích ploch a veřejného osvětle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řevzatých objektů, zařízení a pozemků pro účely rozvoje cestovního ruchu, rekreace a sport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edení demolic devastovaných nebo nevyužitelných objektů bránících provedení revitalizace areálů a uvolněných pl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59B-099A-46A1-8435-E09F054205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souladu akce se schválenou územně plánovací dokumentaci, jde-li o stavby, terénní úpravy zařízení a udržovací práce podle § 103 stavebního zákona nevyžadující stavební povolení ani ohláše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ro provedení demolic devastovaných nebo nevyužitelných objek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322-9E86-4AC3-8E7B-349E412534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Aktualizace územně plánovací dokumentace ob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ualizace rozpracova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změn plat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nové územně plánovací dokumentace – pouze v případě výrazně postižených ob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lohy žád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6B7-4578-442E-8DE6-D0819E419B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byl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10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26D-D030-445C-8D6A-0B88985C03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F13-973B-48BB-8616-F0D83FCF92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 postižené živelní nebo jinou pohromou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neb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8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4ED-9865-40B1-BBDB-42ED3F9C69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EC0-931E-45F0-BAE4-DE2657A656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Program – Bezbariérové obce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,mě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50 % celk. nákladů, dotace s limitem min. 1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bezbariérové vstupy do budov městských a obecních úřadů, DPS, výtahy,WC, transportní technolog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71F-238D-4689-A38A-B8D9D43000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844640"/>
          <a:ext cx="8785440" cy="4826160"/>
        </p:xfrm>
        <a:graphic>
          <a:graphicData uri="http://schemas.openxmlformats.org/drawingml/2006/table">
            <a:tbl>
              <a:tblPr/>
              <a:tblGrid>
                <a:gridCol w="5472360"/>
                <a:gridCol w="1657080"/>
                <a:gridCol w="165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MM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 v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v tis. K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technické infrastrukt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46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podporovaných byt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1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generace panelových sídliš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6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prav olověných rozvodů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 Podpora bydl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 8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F77-A1DD-4B57-89D1-73B99AF0E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Bezbariérové obce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 územním plánování a 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schválení bezbariérové trasy obce Řídícím výborem Národního rozvojového programu mobility pro všech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válený rozpočet obce v době podání žád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lášení o počtu  sociálních nebo zdravotních zařízení zaměřených na péči o osoby s omezenou schopností ohybu a orientace v ob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82E-5301-400D-A0C5-2076CB8DC5D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ín ukončení příjmu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ECB-8DB8-4215-A733-7CB3AB6E3D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492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3. Dotace na územní plány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ECF-C034-458A-B10C-97B3F6239C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125360"/>
            <a:ext cx="8569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 podporu můžou požádat obce nad 500 obyvatel (včetně), které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lní alespoň jednu z následujících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leží v rozvojových oblastech a osách nebo ve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specifických oblastech vymezených v Politice územního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e ČR 2006, případně zpřesněných v zásadách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kraje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inimálně 10 staveb pro bydlení na území obce se nacház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ve stanoveném záplavovém území nebo jejich obytné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místnosti určené pro bydlení byly po 1. lednu 1997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zaplaveny a tyto stavby nemají dosud zajištěno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protipovodňovou ochranu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musí do nového územního plánu zapracovat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ový záměr nadmístního významu obsažený v Politice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2006 nebo v územně plánova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dokumentaci kraj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76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09E-99D4-43FF-8773-8CD5A8A13B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34936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í výše dotace: 3 mil.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íl spolufinancování: 1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um vyhlášení výzvy: 30.1.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828-6CEF-48B4-B1CD-14ECE5D447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599-4D4D-4B31-9689-E9752324D5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program zahrnuje věcné podmínky dané nařízením vlády č. 494/2000 Sb., o podmínkách poskytování dotací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 státního rozpočtu na podporu regenerace panelových sídliš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i může získat obec, na jejímž území se nachází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 sídliště (nejméně 150 b.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c má schválený územní plán obce a projekt regenera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ho sídl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e může být poskytnuta až do výše 50 % rozpočtový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197000"/>
            <a:ext cx="87138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generace  panelových sídliš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EA1-00DD-4D01-961C-B325EF976E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rogram stanovuje podmínky pro poskytování státních dotací na výstavbu dopravní a technické infrastruktury pro následnou výstavbu bytových domů, rodinných domů nebo bytových a rodinných dom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a výše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 je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50 tis. Kč na následně vybudovanou bytovou jedno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ce je poskytován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emní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dovodní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n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8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1052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technické infrastruktury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577-AA4E-4678-BB31-3A7E52DFD1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stavba nájemných bytů pro osoby v nepříznivé sociální situaci, jejichž snížená soběstačnost je způsobená věkem nebo zdravotním stavem nebo pro osoby, které v důsledku nepříznivých životních okolností nemají přístup k bydlení a jsou schopné plnit povinnosti vyplývající z nájemného vzta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ční tit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čovatelský byt (PČ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600 – 650 tis.K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byt (V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250 – 650 tis. K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: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112536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podporovaných by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121-C11C-4889-9734-DFBE24A719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nížení koncentrace olova v pitné vodě výměnou domovních olověných rozvod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jemce dotace: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lastník nebo spoluvlastník domu či bytu v objektu s domovními olověnými rozv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Charakter dot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10 tisíc Kč na jednu bytovou jednotku, výměna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olověných rozvodů musí být provedena v celém dom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otace má neinvestiční charak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aximálně 200 tis. EUR na 3 roky – dle pravidla de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minim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90792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oprav domovních olověných rozvod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5DA-B938-479E-B9C9-19DB525145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ín pro předložení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9D5-4206-46DD-B150-560CBB357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6:47Z</cp:lastPrinted>
  <dcterms:modified xsi:type="dcterms:W3CDTF">2009-05-11T21:15:10Z</dcterms:modified>
  <cp:revision>114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1128759</vt:r8>
  </property>
  <property fmtid="{D5CDD505-2E9C-101B-9397-08002B2CF9AE}" pid="3" name="_AuthorEmail">
    <vt:lpwstr>Martina.Pribylova@mmr.cz</vt:lpwstr>
  </property>
  <property fmtid="{D5CDD505-2E9C-101B-9397-08002B2CF9AE}" pid="4" name="_AuthorEmailDisplayName">
    <vt:lpwstr>Přibylová Martina</vt:lpwstr>
  </property>
  <property fmtid="{D5CDD505-2E9C-101B-9397-08002B2CF9AE}" pid="5" name="_EmailSubject">
    <vt:lpwstr>Odborná komise pro rozvoj venkova-regionálka a bytovka</vt:lpwstr>
  </property>
  <property fmtid="{D5CDD505-2E9C-101B-9397-08002B2CF9AE}" pid="6" name="_PreviousAdHocReviewCycleID">
    <vt:r8>-1199961724</vt:r8>
  </property>
  <property fmtid="{D5CDD505-2E9C-101B-9397-08002B2CF9AE}" pid="7" name="_ReviewingToolsShownOnce">
    <vt:lpwstr/>
  </property>
</Properties>
</file>